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3.gif" ContentType="image/gif"/>
  <Override PartName="/ppt/media/image6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29.jpeg" ContentType="image/jpeg"/>
  <Override PartName="/ppt/media/image5.png" ContentType="image/png"/>
  <Override PartName="/ppt/media/image10.jpeg" ContentType="image/jpeg"/>
  <Override PartName="/ppt/media/image1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4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9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1.jpeg" ContentType="image/jpeg"/>
  <Override PartName="/ppt/media/image12.png" ContentType="image/pn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720263" cy="64801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2779-8631-4720-8854-E3A8FCFE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8280" y="216072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187720" y="3887640"/>
            <a:ext cx="68040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187720" y="4753080"/>
            <a:ext cx="68040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DF2F-240E-4425-BDDC-2CA0EAE3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8280" y="216072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87720" y="3887640"/>
            <a:ext cx="33202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674320" y="3887640"/>
            <a:ext cx="33202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187720" y="4753080"/>
            <a:ext cx="33202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674320" y="4753080"/>
            <a:ext cx="33202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B75E-2037-46A7-A0BA-E3C0D4CE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8280" y="216072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87720" y="3887640"/>
            <a:ext cx="21906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88120" y="3887640"/>
            <a:ext cx="21906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788880" y="3887640"/>
            <a:ext cx="21906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187720" y="4753080"/>
            <a:ext cx="21906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488120" y="4753080"/>
            <a:ext cx="21906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788880" y="4753080"/>
            <a:ext cx="21906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1903-96CE-492A-811D-C431A96D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8824-FDCC-4E39-9B50-533C9034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8280" y="216072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87720" y="3887640"/>
            <a:ext cx="6804000" cy="16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8100-AE0C-424E-8441-F81663F1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8280" y="216072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87720" y="3887640"/>
            <a:ext cx="68040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CE05-706A-4CC1-A2CE-B1F801B4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8280" y="216072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87720" y="3887640"/>
            <a:ext cx="332028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74320" y="3887640"/>
            <a:ext cx="332028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3BD0-30DB-40D8-BFEE-DEFAC2F5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8280" y="216072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AB51-E2DB-46B9-9307-775B57E4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8280" y="2160720"/>
            <a:ext cx="8263080" cy="500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BF11-DD1A-4674-B608-CF9165DB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8280" y="216072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87720" y="3887640"/>
            <a:ext cx="33202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674320" y="3887640"/>
            <a:ext cx="332028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187720" y="4753080"/>
            <a:ext cx="33202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DC37-3836-4EF6-B76F-B7EB14B7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28280" y="216072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187720" y="3887640"/>
            <a:ext cx="6804000" cy="16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339D-1CB4-4E8E-B18E-51D92F47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8280" y="216072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87720" y="3887640"/>
            <a:ext cx="332028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674320" y="3887640"/>
            <a:ext cx="33202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74320" y="4753080"/>
            <a:ext cx="33202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6C6A-E161-4E29-8BBD-DD0F14B7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8280" y="216072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87720" y="3887640"/>
            <a:ext cx="33202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674320" y="3887640"/>
            <a:ext cx="33202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187720" y="4753080"/>
            <a:ext cx="68040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64C4-BC55-4FCE-8E9B-DEB249C5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8280" y="216072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87720" y="3887640"/>
            <a:ext cx="68040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187720" y="4753080"/>
            <a:ext cx="68040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E01D-AC60-4AE1-955C-D718CB8D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8280" y="216072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87720" y="3887640"/>
            <a:ext cx="33202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674320" y="3887640"/>
            <a:ext cx="33202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187720" y="4753080"/>
            <a:ext cx="33202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674320" y="4753080"/>
            <a:ext cx="33202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39E1-238B-4972-ACBE-00F1EC66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28280" y="216072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87720" y="3887640"/>
            <a:ext cx="21906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88120" y="3887640"/>
            <a:ext cx="21906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788880" y="3887640"/>
            <a:ext cx="21906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187720" y="4753080"/>
            <a:ext cx="21906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88120" y="4753080"/>
            <a:ext cx="21906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788880" y="4753080"/>
            <a:ext cx="21906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2DC1-E06E-46F3-A67F-1C38061A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8280" y="216072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87720" y="3887640"/>
            <a:ext cx="68040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40DF-7DDE-4776-ADB8-0AD37C2D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28280" y="216072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87720" y="3887640"/>
            <a:ext cx="332028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74320" y="3887640"/>
            <a:ext cx="332028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4F24-CCA4-4A24-90BE-7238583C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28280" y="216072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C6C-256D-4EBC-A214-16B06063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728280" y="2160720"/>
            <a:ext cx="8263080" cy="500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186F-51E8-48C1-A468-500C8475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8280" y="216072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87720" y="3887640"/>
            <a:ext cx="33202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74320" y="3887640"/>
            <a:ext cx="332028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87720" y="4753080"/>
            <a:ext cx="33202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E4D5-1A3B-4909-B182-DDF4F521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8280" y="216072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87720" y="3887640"/>
            <a:ext cx="332028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74320" y="3887640"/>
            <a:ext cx="33202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4320" y="4753080"/>
            <a:ext cx="33202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FB22-DD0B-45FC-8BDF-724A8384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8280" y="216072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87720" y="3887640"/>
            <a:ext cx="33202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674320" y="3887640"/>
            <a:ext cx="33202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87720" y="4753080"/>
            <a:ext cx="68040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5C67-0195-402C-A7C2-F9361ABC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unr.edu/content/default.asp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nasa.gov/" TargetMode="External"/><Relationship Id="rId5" Type="http://schemas.openxmlformats.org/officeDocument/2006/relationships/image" Target="../media/image3.gif"/><Relationship Id="rId6" Type="http://schemas.openxmlformats.org/officeDocument/2006/relationships/image" Target="../media/image1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28640" y="111240"/>
            <a:ext cx="8989560" cy="6366960"/>
            <a:chOff x="728640" y="111240"/>
            <a:chExt cx="8989560" cy="6366960"/>
          </a:xfrm>
        </p:grpSpPr>
        <p:sp>
          <p:nvSpPr>
            <p:cNvPr id="1" name=""/>
            <p:cNvSpPr/>
            <p:nvPr/>
          </p:nvSpPr>
          <p:spPr>
            <a:xfrm>
              <a:off x="728640" y="6263640"/>
              <a:ext cx="3726000" cy="2145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824000" y="6374520"/>
              <a:ext cx="4605120" cy="61560"/>
              <a:chOff x="4824000" y="6374520"/>
              <a:chExt cx="4605120" cy="61560"/>
            </a:xfrm>
          </p:grpSpPr>
          <p:sp>
            <p:nvSpPr>
              <p:cNvPr id="3" name=""/>
              <p:cNvSpPr/>
              <p:nvPr/>
            </p:nvSpPr>
            <p:spPr>
              <a:xfrm>
                <a:off x="4824000" y="6374520"/>
                <a:ext cx="70920" cy="615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472000" y="6374520"/>
                <a:ext cx="70560" cy="615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120000" y="6374520"/>
                <a:ext cx="69120" cy="615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767640" y="6374520"/>
                <a:ext cx="69120" cy="615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416000" y="6374520"/>
                <a:ext cx="70560" cy="615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064000" y="6374520"/>
                <a:ext cx="70560" cy="615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11640" y="6374520"/>
                <a:ext cx="70920" cy="615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360000" y="6374520"/>
                <a:ext cx="69120" cy="615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92720" y="720360"/>
              <a:ext cx="8925480" cy="7196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55000" y="111240"/>
              <a:ext cx="70560" cy="630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5000" y="328680"/>
              <a:ext cx="70560" cy="615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55000" y="542880"/>
              <a:ext cx="70560" cy="615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8280" y="57636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728280" y="1871280"/>
            <a:ext cx="8263080" cy="38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728280" y="5903640"/>
            <a:ext cx="2025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320640" y="5903640"/>
            <a:ext cx="3483000" cy="431640"/>
          </a:xfrm>
          <a:prstGeom prst="rect">
            <a:avLst/>
          </a:prstGeom>
          <a:noFill/>
          <a:ln cap="sq" w="12600">
            <a:solidFill>
              <a:srgbClr val="330099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0099"/>
                </a:solidFill>
                <a:latin typeface="Times New Roman"/>
              </a:defRPr>
            </a:lvl1pPr>
          </a:lstStyle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99"/>
                </a:solidFill>
                <a:latin typeface="Times New Roman"/>
              </a:rPr>
              <a:t>UNR - Computer Vision Labor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965640" y="5903640"/>
            <a:ext cx="2025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0CB0-FE20-49CD-92FE-E419802B0F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720720"/>
            <a:ext cx="79524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111240"/>
            <a:ext cx="9718200" cy="6366960"/>
            <a:chOff x="0" y="111240"/>
            <a:chExt cx="9718200" cy="6366960"/>
          </a:xfrm>
        </p:grpSpPr>
        <p:sp>
          <p:nvSpPr>
            <p:cNvPr id="58" name=""/>
            <p:cNvSpPr/>
            <p:nvPr/>
          </p:nvSpPr>
          <p:spPr>
            <a:xfrm>
              <a:off x="729000" y="6169320"/>
              <a:ext cx="3726000" cy="30888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9000" y="2304000"/>
              <a:ext cx="8989200" cy="72000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360" y="111240"/>
              <a:ext cx="70920" cy="630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36360" y="328680"/>
              <a:ext cx="70920" cy="615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36360" y="542880"/>
              <a:ext cx="70920" cy="615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36360" y="976680"/>
              <a:ext cx="70920" cy="615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36360" y="1190880"/>
              <a:ext cx="70920" cy="630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6360" y="1408680"/>
              <a:ext cx="70920" cy="615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36360" y="1622880"/>
              <a:ext cx="70920" cy="615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36360" y="1840680"/>
              <a:ext cx="70920" cy="597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36360" y="2056680"/>
              <a:ext cx="70920" cy="615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4824360" y="6302880"/>
              <a:ext cx="4605120" cy="61200"/>
              <a:chOff x="4824360" y="6302880"/>
              <a:chExt cx="4605120" cy="61200"/>
            </a:xfrm>
          </p:grpSpPr>
          <p:sp>
            <p:nvSpPr>
              <p:cNvPr id="70" name=""/>
              <p:cNvSpPr/>
              <p:nvPr/>
            </p:nvSpPr>
            <p:spPr>
              <a:xfrm>
                <a:off x="4824360" y="6302880"/>
                <a:ext cx="70920" cy="612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472360" y="6302880"/>
                <a:ext cx="70560" cy="612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120360" y="6302880"/>
                <a:ext cx="69120" cy="612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768000" y="6302880"/>
                <a:ext cx="69120" cy="612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416360" y="6302880"/>
                <a:ext cx="70560" cy="612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064360" y="6302880"/>
                <a:ext cx="70560" cy="612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712000" y="6302880"/>
                <a:ext cx="70920" cy="612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360360" y="6302880"/>
                <a:ext cx="69120" cy="612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936360" y="760680"/>
              <a:ext cx="70920" cy="597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0" y="3490200"/>
              <a:ext cx="2029680" cy="1804320"/>
              <a:chOff x="0" y="3490200"/>
              <a:chExt cx="2029680" cy="180432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3590640"/>
                <a:ext cx="747360" cy="154908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39360" y="3490200"/>
                <a:ext cx="1390320" cy="180432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94240" y="4250520"/>
                <a:ext cx="106200" cy="10944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8280" y="216072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728280" y="5903640"/>
            <a:ext cx="2025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320640" y="5903640"/>
            <a:ext cx="3078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965640" y="5903640"/>
            <a:ext cx="2025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7F1A-31F1-43E7-940C-3358E1BFCB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The University of Nevada, Ren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20720" y="720720"/>
            <a:ext cx="2105280" cy="750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Animated NASA logo in which the orbit element circles the word NASA. On subsidiary pages, clicking on this graphic returns you to the NASA Home page, http://www.nasa.gov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56360" y="720720"/>
            <a:ext cx="971640" cy="754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4521240" y="720720"/>
            <a:ext cx="825480" cy="746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7980480" y="720720"/>
            <a:ext cx="1011240" cy="7444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8280" y="216072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bcbcb"/>
                </a:solidFill>
                <a:latin typeface="Times New Roman"/>
              </a:rPr>
              <a:t>A Test bed for Hand Visualizat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55760" y="3773160"/>
            <a:ext cx="680400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Beifang Y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65440" y="400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28280" y="576000"/>
            <a:ext cx="82645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Background on Modelling the Human Hand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67000" y="1852560"/>
            <a:ext cx="214956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In general there are 1-3 (DoF) degrees of freedom at a finger joint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85760" y="1687680"/>
            <a:ext cx="6561000" cy="39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28280" y="576000"/>
            <a:ext cx="82645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Our Hand Mode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794200" y="1918800"/>
            <a:ext cx="3562560" cy="37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he first version of our model was a rigid body with about 3,000 polygons (including forearm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54200" y="1974960"/>
            <a:ext cx="4765680" cy="32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28280" y="576000"/>
            <a:ext cx="82645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Our Hand Mode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94200" y="1918800"/>
            <a:ext cx="3562560" cy="37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Here is the wire frame of our mode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More data makes the model look more realist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Less data allows us to manipulate the joints more easil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92120" y="2182680"/>
            <a:ext cx="5100480" cy="35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5794200" y="1918800"/>
            <a:ext cx="3562560" cy="37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Here is our model with  surface normals applied for rendering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It looks fairly realistic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he amount of data is a trade-off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87280" y="2035080"/>
            <a:ext cx="4973760" cy="31291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728640" y="576360"/>
            <a:ext cx="8263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bcbcb"/>
                </a:solidFill>
                <a:latin typeface="Times New Roman"/>
              </a:rPr>
              <a:t>Our Hand Mod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28280" y="57636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Our Hand Mode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8280" y="1871640"/>
            <a:ext cx="8263080" cy="18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t this point we divided the hand into seventeen parts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o do so, we enumerated every vertex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s figure shows the index finger vertex-numberi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203480" y="3263760"/>
            <a:ext cx="7213320" cy="26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8280" y="57636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bcbcb"/>
                </a:solidFill>
                <a:latin typeface="Times New Roman"/>
              </a:rPr>
              <a:t>Our Hand Mode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28280" y="1871280"/>
            <a:ext cx="8263080" cy="38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For each part (except the thumb base part), we compute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art’s center of mass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vector indicating the part's directio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flexion /abduction ax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28280" y="57636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bcbcb"/>
                </a:solidFill>
                <a:latin typeface="Times New Roman"/>
              </a:rPr>
              <a:t>Our Hand Mode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935240" y="1871280"/>
            <a:ext cx="4056120" cy="38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When we move the fingers, (hand in flexion, abduction, ...), it leaves cracks because of its rigidit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809640" y="1531800"/>
            <a:ext cx="3581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28280" y="57636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bcbcb"/>
                </a:solidFill>
                <a:latin typeface="Times New Roman"/>
              </a:rPr>
              <a:t>Our Hand Mode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28280" y="1871280"/>
            <a:ext cx="8263080" cy="38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How to patch the cracks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me of the patches (two upper holes of the four fingers and one upper hole of the thumb) involved in only one operation: flexion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le other patches in two operations: both flexion and ab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28280" y="57636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bcbcb"/>
                </a:solidFill>
                <a:latin typeface="Times New Roman"/>
              </a:rPr>
              <a:t>Our Hand Mode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28280" y="1871280"/>
            <a:ext cx="8263080" cy="38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Solution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rite two new Inventor engine class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ne for the thumb base patc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d the others for the remaining fourteen patch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92200" y="561600"/>
            <a:ext cx="830088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Our Hand Mode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895320" y="1557360"/>
            <a:ext cx="3508560" cy="42735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935240" y="1871280"/>
            <a:ext cx="4056120" cy="38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With the implementation and integration of the two classes, we have achieved a relatively good result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he thumb needs further work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28280" y="57636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System Desig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1360" y="2922480"/>
            <a:ext cx="2430360" cy="3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Segmentatio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5200" y="3656160"/>
            <a:ext cx="2711520" cy="3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36720" bIns="403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3D Reconstructio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98720" y="2470320"/>
            <a:ext cx="1800" cy="45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62200" y="2481120"/>
            <a:ext cx="3240" cy="43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21240" y="2500200"/>
            <a:ext cx="144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79920" y="2536920"/>
            <a:ext cx="81756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……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.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92520" y="3270240"/>
            <a:ext cx="144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99000" y="4030560"/>
            <a:ext cx="144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68760" y="3317760"/>
            <a:ext cx="17175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ilhouet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32040" y="2587680"/>
            <a:ext cx="971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mag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75000" y="4413240"/>
            <a:ext cx="359244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36720" bIns="403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Hand State Estimatio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72160" y="327816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080800" y="3079800"/>
            <a:ext cx="430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60640" y="3079800"/>
            <a:ext cx="0" cy="75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68560" y="38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3338640"/>
            <a:ext cx="15321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inger Reg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46720" y="2922480"/>
            <a:ext cx="2428920" cy="3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Ellipse Detectio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94480" y="3273480"/>
            <a:ext cx="17175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llip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67160" y="3673440"/>
            <a:ext cx="2684520" cy="3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720" bIns="40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Palm State Estimatio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66960" y="4060800"/>
            <a:ext cx="19353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D Volume Im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03840" y="3968640"/>
            <a:ext cx="2387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rientation and Position of Palm (6 DOF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95920" y="4019400"/>
            <a:ext cx="180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63680" y="3656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21000" y="1739880"/>
            <a:ext cx="4919760" cy="7412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14600" y="1782720"/>
            <a:ext cx="1131840" cy="635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718080" y="1782720"/>
            <a:ext cx="1110960" cy="6350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902120" y="1782720"/>
            <a:ext cx="1130400" cy="636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6105600" y="1782720"/>
            <a:ext cx="1136520" cy="636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566040" y="2490840"/>
            <a:ext cx="144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66040" y="2530440"/>
            <a:ext cx="20192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elected View(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130640" y="5272200"/>
            <a:ext cx="2187360" cy="560160"/>
            <a:chOff x="4130640" y="5272200"/>
            <a:chExt cx="2187360" cy="560160"/>
          </a:xfrm>
        </p:grpSpPr>
        <p:sp>
          <p:nvSpPr>
            <p:cNvPr id="163" name=""/>
            <p:cNvSpPr/>
            <p:nvPr/>
          </p:nvSpPr>
          <p:spPr>
            <a:xfrm>
              <a:off x="4202640" y="5346720"/>
              <a:ext cx="211536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160" rIns="56160" tIns="28080" bIns="28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30640" y="5272200"/>
              <a:ext cx="2025720" cy="52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990960" y="5310360"/>
            <a:ext cx="23749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160" rIns="56160" tIns="28080" bIns="28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 Position +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int Ang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99040" y="4903920"/>
            <a:ext cx="324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36840" y="1440000"/>
            <a:ext cx="49370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nchronized images from different vie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944720" y="4424400"/>
            <a:ext cx="1182600" cy="584280"/>
            <a:chOff x="1944720" y="4424400"/>
            <a:chExt cx="1182600" cy="584280"/>
          </a:xfrm>
        </p:grpSpPr>
        <p:sp>
          <p:nvSpPr>
            <p:cNvPr id="169" name=""/>
            <p:cNvSpPr/>
            <p:nvPr/>
          </p:nvSpPr>
          <p:spPr>
            <a:xfrm>
              <a:off x="1983600" y="4502160"/>
              <a:ext cx="114372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160" rIns="5616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Volumetri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Hand Mode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44720" y="4424400"/>
              <a:ext cx="1095120" cy="5428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009880" y="5129280"/>
            <a:ext cx="1179000" cy="538200"/>
            <a:chOff x="2009880" y="5129280"/>
            <a:chExt cx="1179000" cy="538200"/>
          </a:xfrm>
        </p:grpSpPr>
        <p:sp>
          <p:nvSpPr>
            <p:cNvPr id="172" name=""/>
            <p:cNvSpPr/>
            <p:nvPr/>
          </p:nvSpPr>
          <p:spPr>
            <a:xfrm>
              <a:off x="2048400" y="5200920"/>
              <a:ext cx="114048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160" rIns="5616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Hand Model Constrain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09880" y="5129280"/>
              <a:ext cx="1092240" cy="500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052800" y="4556160"/>
            <a:ext cx="29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179880" y="4694400"/>
            <a:ext cx="0" cy="59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79880" y="4694400"/>
            <a:ext cx="172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00320" y="52941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543640"/>
            <a:ext cx="566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23000" y="5327640"/>
            <a:ext cx="1944720" cy="47628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36720" bIns="403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Visualizatio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2200" y="561600"/>
            <a:ext cx="830088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Our Hand Mode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355760" y="1487520"/>
            <a:ext cx="2979720" cy="4357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18280" y="1944360"/>
            <a:ext cx="4055760" cy="38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other hand gestur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ex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a different view poi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the cracks are fi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92200" y="561600"/>
            <a:ext cx="830088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Our Hand Mode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203480" y="1563840"/>
            <a:ext cx="3220920" cy="42242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35240" y="1871280"/>
            <a:ext cx="4056120" cy="38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same hand gesture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racks are filled and proper rendering is d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200" y="57636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bcbcb"/>
                </a:solidFill>
                <a:latin typeface="Times New Roman"/>
              </a:rPr>
              <a:t>Hand Constraint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4320" y="1765080"/>
            <a:ext cx="4344840" cy="39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e have three types of constraints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ype I, II, and II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I: Limits of the range of finger motion as a result of hand anatom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 normal movement of the middle finger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ө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Times New Roman"/>
              </a:rPr>
              <a:t>MCP-AA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= 0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591160" y="1668600"/>
            <a:ext cx="298764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28280" y="57636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bcbcb"/>
                </a:solidFill>
                <a:latin typeface="Times New Roman"/>
              </a:rPr>
              <a:t>Hand Constraint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5200" y="1841400"/>
            <a:ext cx="4054320" cy="38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Type I: for all the fingers except thumb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≤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ө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MCP-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≤  9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≤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ө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PI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≤  1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≤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ө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DI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≤  9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1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≤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ө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MCP-A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≤  1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033960" y="1679400"/>
            <a:ext cx="283536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28280" y="57636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bcbcb"/>
                </a:solidFill>
                <a:latin typeface="Times New Roman"/>
              </a:rPr>
              <a:t>Hand Constraint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64720" y="1795320"/>
            <a:ext cx="4054680" cy="38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Type II:  Limits imposed on the joints during finger motion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tra-finger: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3300" spc="-1" strike="noStrike">
                <a:solidFill>
                  <a:srgbClr val="ffffff"/>
                </a:solidFill>
                <a:latin typeface="Times New Roman"/>
              </a:rPr>
              <a:t>ө</a:t>
            </a:r>
            <a:r>
              <a:rPr b="1" i="1" lang="en-US" sz="2200" spc="-1" strike="noStrike" baseline="-25000">
                <a:solidFill>
                  <a:srgbClr val="ffffff"/>
                </a:solidFill>
                <a:latin typeface="Times New Roman"/>
              </a:rPr>
              <a:t>DIP</a:t>
            </a:r>
            <a:r>
              <a:rPr b="1" lang="en-US" sz="33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ffff"/>
                </a:solidFill>
                <a:latin typeface="MathSoftText"/>
              </a:rPr>
              <a:t>²/</a:t>
            </a:r>
            <a:r>
              <a:rPr b="1" lang="en-US" sz="2600" spc="-1" strike="noStrike" baseline="-25000">
                <a:solidFill>
                  <a:srgbClr val="ffffff"/>
                </a:solidFill>
                <a:latin typeface="MathSoftText"/>
              </a:rPr>
              <a:t>3</a:t>
            </a:r>
            <a:r>
              <a:rPr b="1" lang="en-US" sz="3300" spc="-1" strike="noStrike" baseline="-25000">
                <a:solidFill>
                  <a:srgbClr val="ffffff"/>
                </a:solidFill>
                <a:latin typeface="MathSoftText"/>
              </a:rPr>
              <a:t>  </a:t>
            </a:r>
            <a:r>
              <a:rPr b="1" i="1" lang="ru-RU" sz="3300" spc="-1" strike="noStrike">
                <a:solidFill>
                  <a:srgbClr val="ffffff"/>
                </a:solidFill>
                <a:latin typeface="Times New Roman"/>
              </a:rPr>
              <a:t>ө</a:t>
            </a:r>
            <a:r>
              <a:rPr b="1" i="1" lang="en-US" sz="2200" spc="-1" strike="noStrike" baseline="-25000">
                <a:solidFill>
                  <a:srgbClr val="ffffff"/>
                </a:solidFill>
                <a:latin typeface="Times New Roman"/>
              </a:rPr>
              <a:t>PIP</a:t>
            </a:r>
            <a:r>
              <a:rPr b="1" i="1" lang="en-US" sz="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ter-finger: Normally, when one bends the index at MCP, the middle finger automatically bends at MC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124680" y="1771560"/>
            <a:ext cx="28350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28280" y="57636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bcbcb"/>
                </a:solidFill>
                <a:latin typeface="Times New Roman"/>
              </a:rPr>
              <a:t>Hand Constraint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28280" y="1871280"/>
            <a:ext cx="8263080" cy="38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ype III: common natural movements of hand (not limited by anatomy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rmally when making a fist, you curl all the fingers at same time</a:t>
            </a: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28280" y="57636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Hand Constraint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28280" y="1871280"/>
            <a:ext cx="8263080" cy="38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urrently I am working on improving the implementation of our virtual hand as well as adding realistic constraints to it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974880" y="1455840"/>
            <a:ext cx="7696080" cy="44258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728640" y="576360"/>
            <a:ext cx="826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GUI Desig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728640" y="1871280"/>
            <a:ext cx="33386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irtual hand was initially created on an SGI with Open Invent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n it was ported to Linux/KDevelop, Coin3D(Open Inventor), and Q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8640" y="576360"/>
            <a:ext cx="826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GUI Desig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897360" y="1785960"/>
            <a:ext cx="5608440" cy="38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28280" y="57636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GUI Desig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28280" y="1673280"/>
            <a:ext cx="8263080" cy="13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Qt and Coin3D are open source and cross-platform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 use Linux/KDevelop as my development platform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 have previous versions that run under Windows XP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585800" y="3009960"/>
            <a:ext cx="6015240" cy="27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28280" y="57636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bcbcb"/>
                </a:solidFill>
                <a:latin typeface="Times New Roman"/>
              </a:rPr>
              <a:t>A Test bed for Hand Visualizat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28280" y="1871280"/>
            <a:ext cx="8263080" cy="38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0843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oal: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o provide a virtual interactive environment for displaying the process of hand detection, pose estimation, and tracking for our project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084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28280" y="57636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GUI Desig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90200" y="1612440"/>
            <a:ext cx="817236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in3D can be viewed as an extension of Open Inventor and provides a “widget” to a GUI interface. I used some of its newest featur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Of course, </a:t>
            </a: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it’s free but not bug-fre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143000" y="2792520"/>
            <a:ext cx="7161120" cy="30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28280" y="57636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bcbcb"/>
                </a:solidFill>
                <a:latin typeface="Times New Roman"/>
              </a:rPr>
              <a:t>GUI Desig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803240" y="2043000"/>
            <a:ext cx="1905120" cy="15242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6010200" y="2043000"/>
            <a:ext cx="1905120" cy="15242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1803240" y="4062240"/>
            <a:ext cx="1905120" cy="15242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6010200" y="4062240"/>
            <a:ext cx="19051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28280" y="576000"/>
            <a:ext cx="82645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Inverse Kinematics of the Hand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28280" y="1871640"/>
            <a:ext cx="82645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fter I have finished the visualization part, I will have interests in Inverse Kinematics of the hand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urrently there is no analytical solution for Inverse Kinematics of the whole hand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re are some partial results from studies in Robotics and human arm/leg movement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28280" y="576000"/>
            <a:ext cx="82645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Inverse Kinematics of the Hand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8280" y="1871640"/>
            <a:ext cx="82645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r future work I am going to look at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-traditional algorithms: NN, GA, Bayesian Netwo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/or splitting the hand into several coordinated subtasks (coordinated finger movement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28280" y="216072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bcbcb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355760" y="3773160"/>
            <a:ext cx="680400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Thanks!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65440" y="400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28280" y="57636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bcbcb"/>
                </a:solidFill>
                <a:latin typeface="Times New Roman"/>
              </a:rPr>
              <a:t>A Test bed for Hand Visualizat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28280" y="1871280"/>
            <a:ext cx="8263080" cy="38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Our consideration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1. Modelling the Human hand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2. Hand constraint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3. GUI as a Test bed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4. Hand kinematic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28280" y="576000"/>
            <a:ext cx="82645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Background on Modelling the Human Hand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22240" y="1716120"/>
            <a:ext cx="3861000" cy="41050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62600" y="1871640"/>
            <a:ext cx="40320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In the area of computer-vision studies, people have not considered very accurate models of the hand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For example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28280" y="576000"/>
            <a:ext cx="82645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Background on Modelling the Human Hand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62600" y="1871640"/>
            <a:ext cx="40320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his is another crude hand model that has been used in the past as a human hand.  It has all the fingers (joints), thumb, and palm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4920" y="1809720"/>
            <a:ext cx="3112920" cy="36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28280" y="576000"/>
            <a:ext cx="82645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Background on Modelling the Human Hand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62600" y="1871640"/>
            <a:ext cx="40320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Accurate modelling is a challenging topic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In human body simulation (the virtual human) deformation is a highly complex subject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65040" y="156384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346480" y="1563840"/>
            <a:ext cx="2057400" cy="1989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365040" y="3551400"/>
            <a:ext cx="2030400" cy="1973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2346480" y="3524400"/>
            <a:ext cx="2070000" cy="200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28280" y="576000"/>
            <a:ext cx="82645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Background on Modelling the Human Hand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62600" y="1871640"/>
            <a:ext cx="40320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One attempt is to use a 3D-scanner/digitizer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he hand model has huge amount of dat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uch more than 1 M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16040" y="1971720"/>
            <a:ext cx="3921120" cy="34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8280" y="576000"/>
            <a:ext cx="82645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Background on Modelling the Human Hand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40000" y="1655280"/>
            <a:ext cx="2700360" cy="16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he hand model must follow the results from anatomy studi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42920" y="1617840"/>
            <a:ext cx="6527880" cy="4009320"/>
            <a:chOff x="142920" y="1617840"/>
            <a:chExt cx="6527880" cy="4009320"/>
          </a:xfrm>
        </p:grpSpPr>
        <p:pic>
          <p:nvPicPr>
            <p:cNvPr id="202" name="" descr=""/>
            <p:cNvPicPr/>
            <p:nvPr/>
          </p:nvPicPr>
          <p:blipFill>
            <a:blip r:embed="rId1">
              <a:lum bright="6000"/>
            </a:blip>
            <a:stretch/>
          </p:blipFill>
          <p:spPr>
            <a:xfrm>
              <a:off x="2236680" y="2063520"/>
              <a:ext cx="2835360" cy="35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2459160" y="2147760"/>
              <a:ext cx="2376360" cy="1304640"/>
            </a:xfrm>
            <a:custGeom>
              <a:avLst/>
              <a:gdLst/>
              <a:ahLst/>
              <a:rect l="l" t="t" r="r" b="b"/>
              <a:pathLst>
                <a:path w="6166" h="3675">
                  <a:moveTo>
                    <a:pt x="6165" y="2476"/>
                  </a:moveTo>
                  <a:cubicBezTo>
                    <a:pt x="5739" y="1910"/>
                    <a:pt x="5313" y="1345"/>
                    <a:pt x="4874" y="977"/>
                  </a:cubicBezTo>
                  <a:cubicBezTo>
                    <a:pt x="4435" y="609"/>
                    <a:pt x="4009" y="336"/>
                    <a:pt x="3530" y="268"/>
                  </a:cubicBezTo>
                  <a:cubicBezTo>
                    <a:pt x="3052" y="200"/>
                    <a:pt x="2591" y="0"/>
                    <a:pt x="2003" y="567"/>
                  </a:cubicBezTo>
                  <a:cubicBezTo>
                    <a:pt x="1413" y="1135"/>
                    <a:pt x="343" y="3129"/>
                    <a:pt x="0" y="367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52600" y="2616120"/>
              <a:ext cx="1513080" cy="701280"/>
            </a:xfrm>
            <a:custGeom>
              <a:avLst/>
              <a:gdLst/>
              <a:ahLst/>
              <a:rect l="l" t="t" r="r" b="b"/>
              <a:pathLst>
                <a:path w="3926" h="1975">
                  <a:moveTo>
                    <a:pt x="3925" y="1974"/>
                  </a:moveTo>
                  <a:cubicBezTo>
                    <a:pt x="3547" y="1480"/>
                    <a:pt x="3169" y="985"/>
                    <a:pt x="2766" y="667"/>
                  </a:cubicBezTo>
                  <a:cubicBezTo>
                    <a:pt x="2362" y="349"/>
                    <a:pt x="1962" y="136"/>
                    <a:pt x="1501" y="69"/>
                  </a:cubicBezTo>
                  <a:cubicBezTo>
                    <a:pt x="1040" y="0"/>
                    <a:pt x="520" y="129"/>
                    <a:pt x="0" y="259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11440" y="3151080"/>
              <a:ext cx="1990800" cy="738000"/>
            </a:xfrm>
            <a:custGeom>
              <a:avLst/>
              <a:gdLst/>
              <a:ahLst/>
              <a:rect l="l" t="t" r="r" b="b"/>
              <a:pathLst>
                <a:path w="5165" h="2078">
                  <a:moveTo>
                    <a:pt x="5164" y="1614"/>
                  </a:moveTo>
                  <a:cubicBezTo>
                    <a:pt x="4856" y="1309"/>
                    <a:pt x="4549" y="1002"/>
                    <a:pt x="4214" y="771"/>
                  </a:cubicBezTo>
                  <a:cubicBezTo>
                    <a:pt x="3881" y="540"/>
                    <a:pt x="3552" y="303"/>
                    <a:pt x="3161" y="227"/>
                  </a:cubicBezTo>
                  <a:cubicBezTo>
                    <a:pt x="2770" y="150"/>
                    <a:pt x="2397" y="0"/>
                    <a:pt x="1870" y="308"/>
                  </a:cubicBezTo>
                  <a:cubicBezTo>
                    <a:pt x="1344" y="617"/>
                    <a:pt x="311" y="1837"/>
                    <a:pt x="0" y="2077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936880" y="4108320"/>
              <a:ext cx="1401840" cy="399600"/>
            </a:xfrm>
            <a:custGeom>
              <a:avLst/>
              <a:gdLst/>
              <a:ahLst/>
              <a:rect l="l" t="t" r="r" b="b"/>
              <a:pathLst>
                <a:path w="3636" h="1126">
                  <a:moveTo>
                    <a:pt x="3635" y="989"/>
                  </a:moveTo>
                  <a:cubicBezTo>
                    <a:pt x="3419" y="778"/>
                    <a:pt x="3204" y="567"/>
                    <a:pt x="2976" y="445"/>
                  </a:cubicBezTo>
                  <a:cubicBezTo>
                    <a:pt x="2749" y="323"/>
                    <a:pt x="2546" y="304"/>
                    <a:pt x="2264" y="255"/>
                  </a:cubicBezTo>
                  <a:cubicBezTo>
                    <a:pt x="1984" y="204"/>
                    <a:pt x="1667" y="0"/>
                    <a:pt x="1290" y="146"/>
                  </a:cubicBezTo>
                  <a:cubicBezTo>
                    <a:pt x="913" y="291"/>
                    <a:pt x="206" y="1058"/>
                    <a:pt x="0" y="1125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14760" y="3462120"/>
              <a:ext cx="1817640" cy="677520"/>
            </a:xfrm>
            <a:custGeom>
              <a:avLst/>
              <a:gdLst/>
              <a:ahLst/>
              <a:rect l="l" t="t" r="r" b="b"/>
              <a:pathLst>
                <a:path w="4717" h="1907">
                  <a:moveTo>
                    <a:pt x="0" y="1906"/>
                  </a:moveTo>
                  <a:cubicBezTo>
                    <a:pt x="707" y="1198"/>
                    <a:pt x="1413" y="490"/>
                    <a:pt x="1924" y="245"/>
                  </a:cubicBezTo>
                  <a:cubicBezTo>
                    <a:pt x="2432" y="0"/>
                    <a:pt x="2731" y="312"/>
                    <a:pt x="3055" y="435"/>
                  </a:cubicBezTo>
                  <a:cubicBezTo>
                    <a:pt x="3381" y="558"/>
                    <a:pt x="3596" y="790"/>
                    <a:pt x="3872" y="980"/>
                  </a:cubicBezTo>
                  <a:cubicBezTo>
                    <a:pt x="4149" y="1171"/>
                    <a:pt x="4584" y="1452"/>
                    <a:pt x="4716" y="15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82720" y="4113000"/>
              <a:ext cx="61920" cy="5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94080" y="3541680"/>
              <a:ext cx="60120" cy="5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51280" y="3589200"/>
              <a:ext cx="60120" cy="60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67000" y="3774960"/>
              <a:ext cx="61920" cy="5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92440" y="3987720"/>
              <a:ext cx="60480" cy="60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94000" y="2844720"/>
              <a:ext cx="1400040" cy="628200"/>
            </a:xfrm>
            <a:custGeom>
              <a:avLst/>
              <a:gdLst/>
              <a:ahLst/>
              <a:rect l="l" t="t" r="r" b="b"/>
              <a:pathLst>
                <a:path w="3635" h="1771">
                  <a:moveTo>
                    <a:pt x="3634" y="1770"/>
                  </a:moveTo>
                  <a:cubicBezTo>
                    <a:pt x="3296" y="1379"/>
                    <a:pt x="2957" y="989"/>
                    <a:pt x="2581" y="708"/>
                  </a:cubicBezTo>
                  <a:cubicBezTo>
                    <a:pt x="2203" y="426"/>
                    <a:pt x="1799" y="163"/>
                    <a:pt x="1368" y="81"/>
                  </a:cubicBezTo>
                  <a:cubicBezTo>
                    <a:pt x="939" y="0"/>
                    <a:pt x="244" y="204"/>
                    <a:pt x="0" y="217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82840" y="2892240"/>
              <a:ext cx="61920" cy="60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2844720"/>
              <a:ext cx="61920" cy="5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46560" y="3066840"/>
              <a:ext cx="61920" cy="5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73520" y="3444840"/>
              <a:ext cx="61920" cy="5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43240" y="2381040"/>
              <a:ext cx="1563840" cy="792000"/>
            </a:xfrm>
            <a:custGeom>
              <a:avLst/>
              <a:gdLst/>
              <a:ahLst/>
              <a:rect l="l" t="t" r="r" b="b"/>
              <a:pathLst>
                <a:path w="4058" h="2230">
                  <a:moveTo>
                    <a:pt x="4057" y="2229"/>
                  </a:moveTo>
                  <a:cubicBezTo>
                    <a:pt x="3651" y="1675"/>
                    <a:pt x="3245" y="1121"/>
                    <a:pt x="2819" y="758"/>
                  </a:cubicBezTo>
                  <a:cubicBezTo>
                    <a:pt x="2393" y="395"/>
                    <a:pt x="1972" y="99"/>
                    <a:pt x="1501" y="49"/>
                  </a:cubicBezTo>
                  <a:cubicBezTo>
                    <a:pt x="1032" y="0"/>
                    <a:pt x="193" y="345"/>
                    <a:pt x="0" y="457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22720" y="2506680"/>
              <a:ext cx="60120" cy="5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9880" y="2369880"/>
              <a:ext cx="61920" cy="5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08480" y="2631960"/>
              <a:ext cx="60120" cy="5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65680" y="3135240"/>
              <a:ext cx="60120" cy="60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12760" y="3095640"/>
              <a:ext cx="10875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Thumb (T)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71760" y="2068560"/>
              <a:ext cx="903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Index (I)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52600" y="2049480"/>
              <a:ext cx="1279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Middle (M)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57640" y="2117520"/>
              <a:ext cx="1116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Ring (R)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51400" y="2504880"/>
              <a:ext cx="760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Little (L)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00200" y="3589200"/>
              <a:ext cx="60480" cy="60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92160" y="1617840"/>
              <a:ext cx="356580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Hand Anatomy (Dorsopalmar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95600" y="5325840"/>
              <a:ext cx="73332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Wris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22720" y="4743360"/>
              <a:ext cx="60120" cy="5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08480" y="4619520"/>
              <a:ext cx="1462320" cy="456840"/>
            </a:xfrm>
            <a:prstGeom prst="borderCallout1">
              <a:avLst>
                <a:gd name="adj1" fmla="val 18750"/>
                <a:gd name="adj2" fmla="val -8333"/>
                <a:gd name="adj3" fmla="val -31944"/>
                <a:gd name="adj4" fmla="val -59611"/>
              </a:avLst>
            </a:prstGeom>
            <a:noFill/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imes New Roman"/>
                </a:rPr>
                <a:t>Metacarp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08480" y="3922560"/>
              <a:ext cx="1462320" cy="456840"/>
            </a:xfrm>
            <a:prstGeom prst="borderCallout1">
              <a:avLst>
                <a:gd name="adj1" fmla="val 18750"/>
                <a:gd name="adj2" fmla="val -8333"/>
                <a:gd name="adj3" fmla="val -42013"/>
                <a:gd name="adj4" fmla="val -39629"/>
              </a:avLst>
            </a:prstGeom>
            <a:noFill/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imes New Roman"/>
                </a:rPr>
                <a:t>Proximal Phalan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08480" y="3227400"/>
              <a:ext cx="1462320" cy="456840"/>
            </a:xfrm>
            <a:prstGeom prst="borderCallout1">
              <a:avLst>
                <a:gd name="adj1" fmla="val 18750"/>
                <a:gd name="adj2" fmla="val -8333"/>
                <a:gd name="adj3" fmla="val 21180"/>
                <a:gd name="adj4" fmla="val -30185"/>
              </a:avLst>
            </a:prstGeom>
            <a:noFill/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imes New Roman"/>
                </a:rPr>
                <a:t>Middle Phalan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08480" y="2531880"/>
              <a:ext cx="1462320" cy="456840"/>
            </a:xfrm>
            <a:prstGeom prst="borderCallout1">
              <a:avLst>
                <a:gd name="adj1" fmla="val 18750"/>
                <a:gd name="adj2" fmla="val -8333"/>
                <a:gd name="adj3" fmla="val 104513"/>
                <a:gd name="adj4" fmla="val -24972"/>
              </a:avLst>
            </a:prstGeom>
            <a:noFill/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imes New Roman"/>
                </a:rPr>
                <a:t>Distal Phalan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2920" y="4894200"/>
              <a:ext cx="1962000" cy="593280"/>
            </a:xfrm>
            <a:prstGeom prst="borderCallout1">
              <a:avLst>
                <a:gd name="adj1" fmla="val 18750"/>
                <a:gd name="adj2" fmla="val -8333"/>
                <a:gd name="adj3" fmla="val -16847"/>
                <a:gd name="adj4" fmla="val 156634"/>
              </a:avLst>
            </a:prstGeom>
            <a:noFill/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imes New Roman"/>
                </a:rPr>
                <a:t>Trapeziometacarpal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imes New Roman"/>
                </a:rPr>
                <a:t>(TM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2920" y="4155840"/>
              <a:ext cx="1962000" cy="593640"/>
            </a:xfrm>
            <a:prstGeom prst="borderCallout1">
              <a:avLst>
                <a:gd name="adj1" fmla="val 18750"/>
                <a:gd name="adj2" fmla="val -8333"/>
                <a:gd name="adj3" fmla="val -1337"/>
                <a:gd name="adj4" fmla="val 130259"/>
              </a:avLst>
            </a:prstGeom>
            <a:noFill/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imes New Roman"/>
                </a:rPr>
                <a:t>Metacarpophalange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imes New Roman"/>
                </a:rPr>
                <a:t>(MCP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2920" y="3417840"/>
              <a:ext cx="1962000" cy="593280"/>
            </a:xfrm>
            <a:prstGeom prst="borderCallout1">
              <a:avLst>
                <a:gd name="adj1" fmla="val 18750"/>
                <a:gd name="adj2" fmla="val -8333"/>
                <a:gd name="adj3" fmla="val 34759"/>
                <a:gd name="adj4" fmla="val 120875"/>
              </a:avLst>
            </a:prstGeom>
            <a:noFill/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imes New Roman"/>
                </a:rPr>
                <a:t>Interphalange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imes New Roman"/>
                </a:rPr>
                <a:t>(IP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2920" y="2679480"/>
              <a:ext cx="1962000" cy="593640"/>
            </a:xfrm>
            <a:prstGeom prst="borderCallout1">
              <a:avLst>
                <a:gd name="adj1" fmla="val 18750"/>
                <a:gd name="adj2" fmla="val -8333"/>
                <a:gd name="adj3" fmla="val 40643"/>
                <a:gd name="adj4" fmla="val 160842"/>
              </a:avLst>
            </a:prstGeom>
            <a:noFill/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imes New Roman"/>
                </a:rPr>
                <a:t>Proximal Interphalange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imes New Roman"/>
                </a:rPr>
                <a:t>(PIP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2920" y="1942920"/>
              <a:ext cx="1962000" cy="593640"/>
            </a:xfrm>
            <a:prstGeom prst="borderCallout1">
              <a:avLst>
                <a:gd name="adj1" fmla="val 18750"/>
                <a:gd name="adj2" fmla="val -8333"/>
                <a:gd name="adj3" fmla="val 97861"/>
                <a:gd name="adj4" fmla="val 157120"/>
              </a:avLst>
            </a:prstGeom>
            <a:noFill/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imes New Roman"/>
                </a:rPr>
                <a:t>Distal Interphalange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imes New Roman"/>
                </a:rPr>
                <a:t>(DIP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yi</cp:lastModifiedBy>
  <dcterms:modified xsi:type="dcterms:W3CDTF">2003-04-18T02:38:44Z</dcterms:modified>
  <cp:revision>55</cp:revision>
  <dc:subject/>
  <dc:title>Hand Visualization/Testbed</dc:title>
</cp:coreProperties>
</file>