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2.png" ContentType="image/png"/>
  <Override PartName="/ppt/media/image1.jpeg" ContentType="image/jpeg"/>
  <Override PartName="/ppt/media/image7.png" ContentType="image/png"/>
  <Override PartName="/ppt/media/image4.png" ContentType="image/png"/>
  <Override PartName="/ppt/media/image3.gif" ContentType="image/gif"/>
  <Override PartName="/ppt/media/image14.wmf" ContentType="image/x-wmf"/>
  <Override PartName="/ppt/media/image6.png" ContentType="image/png"/>
  <Override PartName="/ppt/media/image12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93FA-3F0B-47EC-AC19-249966139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6220-0CC0-41FC-9A17-EB1F86FE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08C0-BAA3-4ECD-9A37-8E4415D82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FB43-B6B9-43E3-93E4-06E523A66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04A6-775F-4197-80E9-5406FDB4D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D9C4-F895-4E27-9A4E-E995B3EB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14F7-30CC-48A6-A394-E27E2D79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78F4-C05E-446D-A391-19BEBBEA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4D5F-5EF7-47BD-BB0D-AE3B0ACF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4399-8A5A-4B39-9F5A-21D90146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2664-4E60-4CC3-A0FE-58F7829D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0F0A-ED96-4B1E-9A2D-1616B5A3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5AFB-847A-4D38-A973-F8014E27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75D9-C280-47BC-AD01-B14FF0B5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733A-2E72-4C79-B2A1-6E302FF4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F1AC-ECDE-4DFB-8BDA-DE979E337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C6F8-A8FC-4B20-B0F2-88F69240C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C9A4-872D-45A1-B815-2963EF2E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88F2-B361-4767-9041-F90810E7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BA40-FAAC-47E2-8B4A-3CC449E7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258A-FF47-4575-85BD-3C057D6E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5B19-8BFB-4D41-8530-F640EF47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82E6-CA8F-49E0-BED9-65765F1C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426E-434A-477E-81C3-EF602DA0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unr.edu/content/default.asp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nasa.gov/" TargetMode="External"/><Relationship Id="rId5" Type="http://schemas.openxmlformats.org/officeDocument/2006/relationships/image" Target="../media/image3.gif"/><Relationship Id="rId6" Type="http://schemas.openxmlformats.org/officeDocument/2006/relationships/image" Target="../media/image1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46280" y="762120"/>
              <a:ext cx="839628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4341-DE99-45FA-B358-C3FCF45071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0" y="762120"/>
            <a:ext cx="747720" cy="761760"/>
          </a:xfrm>
          <a:prstGeom prst="rect">
            <a:avLst/>
          </a:prstGeom>
          <a:ln w="0">
            <a:noFill/>
          </a:ln>
        </p:spPr>
      </p:pic>
      <p:sp>
        <p:nvSpPr>
          <p:cNvPr id="21" name=""/>
          <p:cNvSpPr/>
          <p:nvPr/>
        </p:nvSpPr>
        <p:spPr>
          <a:xfrm>
            <a:off x="685800" y="6594480"/>
            <a:ext cx="35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bcbcb"/>
                </a:solidFill>
                <a:latin typeface="Times New Roman"/>
              </a:rPr>
              <a:t>UNR – Computer Vision Laborato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9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71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81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51D8-83DD-4A3C-B56E-D20F8E744F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The University of Nevada, Ren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3880" y="762120"/>
            <a:ext cx="1981440" cy="795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Animated NASA logo in which the orbit element circles the word NASA. On subsidiary pages, clicking on this graphic returns you to the NASA Home page, http://www.nasa.gov.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91320" y="762120"/>
            <a:ext cx="914400" cy="798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>
            <a:lum bright="-12000"/>
          </a:blip>
          <a:stretch/>
        </p:blipFill>
        <p:spPr>
          <a:xfrm>
            <a:off x="4253040" y="762120"/>
            <a:ext cx="776160" cy="790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7507440" y="762120"/>
            <a:ext cx="950760" cy="7887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Hand Segmentat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Javier E. Martinez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Recognition Algorithm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pply heuristic rules based on the pixel color (HSI) to decide which color to assig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f (I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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0.15), set the pixel to black (assuming black background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lseIf (I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0.15) AND (MaxFreqDiff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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0.5),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assign most likely color on histogra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seIf (MaxFreqDiff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0.5)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OR (I &gt; 0.9), use hysteresis to assign the color of one of its neighbo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lse, set the pixel to the background colo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Result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7" name="Glove1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Result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9" name="HGlove1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Use multiple views to enhance hysteresi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Use several dim lights to reduce the effect of shadows in the calibration as well as during recogni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Use non-interlaced captured images to eliminate interlacing artifac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Use edge detec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Questions?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91120" y="320040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Why a segmentation module?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1760" y="61722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ffff"/>
                </a:solidFill>
                <a:uFillTx/>
                <a:latin typeface="Tahoma"/>
              </a:rPr>
              <a:t>3D Reconstruction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 requires Segmentation to be fast and accu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447920" y="1523880"/>
            <a:ext cx="6629400" cy="4648320"/>
            <a:chOff x="1447920" y="1523880"/>
            <a:chExt cx="6629400" cy="4648320"/>
          </a:xfrm>
        </p:grpSpPr>
        <p:sp>
          <p:nvSpPr>
            <p:cNvPr id="134" name=""/>
            <p:cNvSpPr/>
            <p:nvPr/>
          </p:nvSpPr>
          <p:spPr>
            <a:xfrm>
              <a:off x="1981080" y="3092400"/>
              <a:ext cx="2286000" cy="365040"/>
            </a:xfrm>
            <a:prstGeom prst="rect">
              <a:avLst/>
            </a:prstGeom>
            <a:noFill/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Segmentation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54360" y="3898800"/>
              <a:ext cx="2550960" cy="365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36720" bIns="4032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3D Reconstruction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46480" y="2614680"/>
              <a:ext cx="144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70360" y="2625840"/>
              <a:ext cx="2880" cy="46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38480" y="2629080"/>
              <a:ext cx="1800" cy="45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081240" y="2684520"/>
              <a:ext cx="7686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ahoma"/>
                </a:rPr>
                <a:t>……</a:t>
              </a:r>
              <a:r>
                <a:rPr b="0" lang="en-US" sz="900" spc="-1" strike="noStrike">
                  <a:solidFill>
                    <a:srgbClr val="ffffff"/>
                  </a:solidFill>
                  <a:latin typeface="Tahoma"/>
                </a:rPr>
                <a:t>..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92400" y="3460680"/>
              <a:ext cx="180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98880" y="4265640"/>
              <a:ext cx="1440" cy="41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070080" y="3511440"/>
              <a:ext cx="16164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Silhouett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35160" y="2738520"/>
              <a:ext cx="91440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Imag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93960" y="4670280"/>
              <a:ext cx="337968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36720" bIns="4032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Hand State Estimation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91320" y="3468600"/>
              <a:ext cx="0" cy="41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1576080" y="3259080"/>
              <a:ext cx="376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557360" y="3259080"/>
              <a:ext cx="0" cy="80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65280" y="4062240"/>
              <a:ext cx="28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47640" y="3533760"/>
              <a:ext cx="144180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Finger Region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48320" y="3092400"/>
              <a:ext cx="2286000" cy="365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Ellipse Detection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23000" y="3463920"/>
              <a:ext cx="16160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Ellip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73440" y="3887640"/>
              <a:ext cx="2525760" cy="365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720" bIns="403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Palm State Estimation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68640" y="4297320"/>
              <a:ext cx="182088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3D Volume Imag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30920" y="4200480"/>
              <a:ext cx="224640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Orientation and Position of Palm (6 DOF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91320" y="4254480"/>
              <a:ext cx="1440" cy="41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85080" y="386856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97200" y="1841400"/>
              <a:ext cx="4627440" cy="7844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>
              <a:off x="1984320" y="1886040"/>
              <a:ext cx="1065240" cy="67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2"/>
            <a:stretch/>
          </p:blipFill>
          <p:spPr>
            <a:xfrm>
              <a:off x="3116160" y="1886040"/>
              <a:ext cx="1046160" cy="67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3"/>
            <a:stretch/>
          </p:blipFill>
          <p:spPr>
            <a:xfrm>
              <a:off x="4230720" y="1886040"/>
              <a:ext cx="1063440" cy="6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4"/>
            <a:stretch/>
          </p:blipFill>
          <p:spPr>
            <a:xfrm>
              <a:off x="5362560" y="1886040"/>
              <a:ext cx="1069920" cy="6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5791320" y="2639880"/>
              <a:ext cx="1440" cy="44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796000" y="2678040"/>
              <a:ext cx="18986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Selected View(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3505320" y="5580000"/>
              <a:ext cx="2057040" cy="592200"/>
              <a:chOff x="3505320" y="5580000"/>
              <a:chExt cx="2057040" cy="592200"/>
            </a:xfrm>
          </p:grpSpPr>
          <p:sp>
            <p:nvSpPr>
              <p:cNvPr id="165" name=""/>
              <p:cNvSpPr/>
              <p:nvPr/>
            </p:nvSpPr>
            <p:spPr>
              <a:xfrm>
                <a:off x="3573000" y="5658840"/>
                <a:ext cx="1989360" cy="51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160" rIns="56160" tIns="28080" bIns="280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505320" y="5580000"/>
                <a:ext cx="1905120" cy="5500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3373560" y="5619600"/>
              <a:ext cx="22334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160" rIns="56160" tIns="28080" bIns="28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and Position 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Joint Ang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416480" y="5189400"/>
              <a:ext cx="144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911240" y="1523880"/>
              <a:ext cx="46450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nchronized images from different view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1447920" y="4683240"/>
              <a:ext cx="1112400" cy="617400"/>
              <a:chOff x="1447920" y="4683240"/>
              <a:chExt cx="1112400" cy="617400"/>
            </a:xfrm>
          </p:grpSpPr>
          <p:sp>
            <p:nvSpPr>
              <p:cNvPr id="171" name=""/>
              <p:cNvSpPr/>
              <p:nvPr/>
            </p:nvSpPr>
            <p:spPr>
              <a:xfrm>
                <a:off x="1484280" y="4765320"/>
                <a:ext cx="1076040" cy="53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160" rIns="5616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ffffff"/>
                    </a:solidFill>
                    <a:latin typeface="Arial"/>
                  </a:rPr>
                  <a:t>Volumetric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ffffff"/>
                    </a:solidFill>
                    <a:latin typeface="Arial"/>
                  </a:rPr>
                  <a:t>Hand Model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447920" y="4683240"/>
                <a:ext cx="1030680" cy="57348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1509840" y="5427720"/>
              <a:ext cx="1109520" cy="569520"/>
              <a:chOff x="1509840" y="5427720"/>
              <a:chExt cx="1109520" cy="569520"/>
            </a:xfrm>
          </p:grpSpPr>
          <p:sp>
            <p:nvSpPr>
              <p:cNvPr id="174" name=""/>
              <p:cNvSpPr/>
              <p:nvPr/>
            </p:nvSpPr>
            <p:spPr>
              <a:xfrm>
                <a:off x="1546200" y="5503320"/>
                <a:ext cx="1073160" cy="49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160" rIns="5616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ffffff"/>
                    </a:solidFill>
                    <a:latin typeface="Arial"/>
                  </a:rPr>
                  <a:t>Hand Model Constraint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509840" y="5427720"/>
                <a:ext cx="1027440" cy="5292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2490840" y="4821120"/>
              <a:ext cx="28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2610000" y="4967280"/>
              <a:ext cx="0" cy="63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610000" y="4967280"/>
              <a:ext cx="16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35120" y="5602320"/>
              <a:ext cx="6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410080" y="5867280"/>
              <a:ext cx="533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43600" y="5638680"/>
              <a:ext cx="182880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36720" bIns="4032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Visualization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Paint Select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Non-shin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lasti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Good adherence to latex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Water soluble (desirable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Yellow1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Color Space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re exist several models that describe color perception (RGB, CMY, XYZ, L*a*b*,  L*u*v*, HSI, among other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SI separates color luminosity or intensity from the other color components. The I component contains the actual intensit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SI is an additive color model that can be related to tints, tones and shad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Color Space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8" name="RGBspace" descr=""/>
          <p:cNvPicPr/>
          <p:nvPr/>
        </p:nvPicPr>
        <p:blipFill>
          <a:blip r:embed="rId1"/>
          <a:stretch/>
        </p:blipFill>
        <p:spPr>
          <a:xfrm>
            <a:off x="1066680" y="243828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066680" y="541008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GB color spa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038480" y="2895480"/>
                <a:ext cx="126684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H</m:t>
                                  </m:r>
                                  <m:r>
                                    <m:t xml:space="preserve">=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rctan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f>
                                        <m:num>
                                          <m:r>
                                            <m:t xml:space="preserve">β</m:t>
                                          </m:r>
                                        </m:num>
                                        <m:den>
                                          <m:r>
                                            <m:t xml:space="preserve">α</m:t>
                                          </m:r>
                                        </m:den>
                                      </m:f>
                                    </m:e>
                                  </m:d>
                                </m:e>
                              </m:mr>
                              <m:mr>
                                <m:e>
                                  <m:r>
                                    <m:t xml:space="preserve">S</m:t>
                                  </m:r>
                                  <m:r>
                                    <m:t xml:space="preserve">=</m:t>
                                  </m:r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sSup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  <m:r>
                                        <m:t xml:space="preserve">+</m:t>
                                      </m:r>
                                      <m:sSup>
                                        <m:e>
                                          <m:r>
                                            <m:t xml:space="preserve">β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e>
                                  </m:rad>
                                </m:e>
                              </m:mr>
                              <m:mr>
                                <m:e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R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G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B</m:t>
                                      </m:r>
                                    </m:e>
                                  </m:d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α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G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B</m:t>
                                      </m:r>
                                    </m:e>
                                  </m:d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β</m:t>
                                  </m:r>
                                  <m:r>
                                    <m:t xml:space="preserve">=</m:t>
                                  </m:r>
                                  <m:f>
                                    <m:num>
                                      <m:rad>
                                        <m:radPr>
                                          <m:degHide m:val="1"/>
                                        </m:radPr>
                                        <m:deg/>
                                        <m:e>
                                          <m:r>
                                            <m:t xml:space="preserve">3</m:t>
                                          </m:r>
                                        </m:e>
                                      </m:rad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G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B</m:t>
                                      </m:r>
                                    </m:e>
                                  </m:d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91" name="HSIPolspace" descr=""/>
          <p:cNvPicPr/>
          <p:nvPr/>
        </p:nvPicPr>
        <p:blipFill>
          <a:blip r:embed="rId2"/>
          <a:stretch/>
        </p:blipFill>
        <p:spPr>
          <a:xfrm>
            <a:off x="5486400" y="243828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486400" y="541008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SI color spa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Calibrat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95360" indent="-495360"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uild a color table to decide the most appropriate colo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95360" indent="-495360"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aint gloves using a single color to detect color variati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95360" indent="-495360"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anually segment the imag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95360" indent="-495360"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uild a luminance independent color frequency map (Hue-Saturation histogram) for each of the colo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Calibrat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96" name="ColorChart1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752480" y="1752480"/>
            <a:ext cx="563904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Calibrat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600200" y="2077920"/>
          <a:ext cx="6095880" cy="386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077920"/>
                    <a:ext cx="6095880" cy="38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0" name=""/>
          <p:cNvGrpSpPr/>
          <p:nvPr/>
        </p:nvGrpSpPr>
        <p:grpSpPr>
          <a:xfrm>
            <a:off x="2333520" y="3295800"/>
            <a:ext cx="3229200" cy="1504800"/>
            <a:chOff x="2333520" y="3295800"/>
            <a:chExt cx="3229200" cy="1504800"/>
          </a:xfrm>
        </p:grpSpPr>
        <p:sp>
          <p:nvSpPr>
            <p:cNvPr id="201" name=""/>
            <p:cNvSpPr/>
            <p:nvPr/>
          </p:nvSpPr>
          <p:spPr>
            <a:xfrm>
              <a:off x="2333520" y="3295800"/>
              <a:ext cx="304920" cy="304560"/>
            </a:xfrm>
            <a:prstGeom prst="ellipse">
              <a:avLst/>
            </a:prstGeom>
            <a:noFill/>
            <a:ln cap="sq"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333520" y="3886200"/>
              <a:ext cx="304920" cy="304920"/>
            </a:xfrm>
            <a:prstGeom prst="ellipse">
              <a:avLst/>
            </a:prstGeom>
            <a:noFill/>
            <a:ln cap="sq"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257800" y="4495680"/>
              <a:ext cx="304920" cy="304920"/>
            </a:xfrm>
            <a:prstGeom prst="ellipse">
              <a:avLst/>
            </a:prstGeom>
            <a:noFill/>
            <a:ln cap="sq"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66880" y="4343400"/>
              <a:ext cx="304920" cy="304920"/>
            </a:xfrm>
            <a:prstGeom prst="ellipse">
              <a:avLst/>
            </a:prstGeom>
            <a:noFill/>
            <a:ln cap="sq"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33920" y="4343400"/>
              <a:ext cx="304560" cy="304920"/>
            </a:xfrm>
            <a:prstGeom prst="ellipse">
              <a:avLst/>
            </a:prstGeom>
            <a:noFill/>
            <a:ln cap="sq"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Calibrat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036800" y="1616040"/>
          <a:ext cx="7110360" cy="468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6800" y="1616040"/>
                    <a:ext cx="7110360" cy="46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7620120" y="4191120"/>
            <a:ext cx="914400" cy="380880"/>
          </a:xfrm>
          <a:prstGeom prst="borderCallout2">
            <a:avLst>
              <a:gd name="adj1" fmla="val 18750"/>
              <a:gd name="adj2" fmla="val -8333"/>
              <a:gd name="adj3" fmla="val 30000"/>
              <a:gd name="adj4" fmla="val -158509"/>
              <a:gd name="adj5" fmla="val 250000"/>
              <a:gd name="adj6" fmla="val -314583"/>
            </a:avLst>
          </a:prstGeom>
          <a:noFill/>
          <a:ln cap="sq" w="12600">
            <a:solidFill>
              <a:srgbClr val="ff99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Times New Roman"/>
              </a:rPr>
              <a:t>Ol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20120" y="3505320"/>
            <a:ext cx="914400" cy="380880"/>
          </a:xfrm>
          <a:prstGeom prst="borderCallout2">
            <a:avLst>
              <a:gd name="adj1" fmla="val 18750"/>
              <a:gd name="adj2" fmla="val -8333"/>
              <a:gd name="adj3" fmla="val 30000"/>
              <a:gd name="adj4" fmla="val -159027"/>
              <a:gd name="adj5" fmla="val 187500"/>
              <a:gd name="adj6" fmla="val -315625"/>
            </a:avLst>
          </a:prstGeom>
          <a:noFill/>
          <a:ln cap="sq" w="12600">
            <a:solidFill>
              <a:srgbClr val="ff99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Times New Roman"/>
              </a:rPr>
              <a:t>Gre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0120" y="2743200"/>
            <a:ext cx="914400" cy="380880"/>
          </a:xfrm>
          <a:prstGeom prst="borderCallout2">
            <a:avLst>
              <a:gd name="adj1" fmla="val 18750"/>
              <a:gd name="adj2" fmla="val -8333"/>
              <a:gd name="adj3" fmla="val 30000"/>
              <a:gd name="adj4" fmla="val -156597"/>
              <a:gd name="adj5" fmla="val 97500"/>
              <a:gd name="adj6" fmla="val -295833"/>
            </a:avLst>
          </a:prstGeom>
          <a:noFill/>
          <a:ln cap="sq" w="12600">
            <a:solidFill>
              <a:srgbClr val="ff99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Times New Roman"/>
              </a:rPr>
              <a:t>Grap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4191120"/>
            <a:ext cx="914400" cy="380880"/>
          </a:xfrm>
          <a:prstGeom prst="borderCallout2">
            <a:avLst>
              <a:gd name="adj1" fmla="val 18750"/>
              <a:gd name="adj2" fmla="val -8333"/>
              <a:gd name="adj3" fmla="val 30000"/>
              <a:gd name="adj4" fmla="val 223787"/>
              <a:gd name="adj5" fmla="val 262500"/>
              <a:gd name="adj6" fmla="val 343750"/>
            </a:avLst>
          </a:prstGeom>
          <a:noFill/>
          <a:ln cap="sq" w="12600">
            <a:solidFill>
              <a:srgbClr val="ff99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Times New Roman"/>
              </a:rPr>
              <a:t>Yello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4886280"/>
            <a:ext cx="914400" cy="380880"/>
          </a:xfrm>
          <a:prstGeom prst="borderCallout2">
            <a:avLst>
              <a:gd name="adj1" fmla="val 18750"/>
              <a:gd name="adj2" fmla="val -8333"/>
              <a:gd name="adj3" fmla="val 30000"/>
              <a:gd name="adj4" fmla="val 223611"/>
              <a:gd name="adj5" fmla="val 120000"/>
              <a:gd name="adj6" fmla="val 360416"/>
            </a:avLst>
          </a:prstGeom>
          <a:noFill/>
          <a:ln cap="sq" w="12600">
            <a:solidFill>
              <a:srgbClr val="ff99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Times New Roman"/>
              </a:rPr>
              <a:t>Ta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10:46:50Z</dcterms:created>
  <dc:creator>Javier Martinez</dc:creator>
  <dc:description/>
  <dc:language>en-US</dc:language>
  <cp:lastModifiedBy>Javier Martinez</cp:lastModifiedBy>
  <dcterms:modified xsi:type="dcterms:W3CDTF">2003-04-18T01:17:13Z</dcterms:modified>
  <cp:revision>28</cp:revision>
  <dc:subject/>
  <dc:title>Finger segmentation</dc:title>
</cp:coreProperties>
</file>