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E1E6-EC1B-49D0-ADFA-8776FB20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D97D-3220-49C2-9F70-8634ABC3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F766-B299-4A6F-B291-3138D5AB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D233-5B8C-41E2-A7D8-E1536056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EBAC-C696-4F51-8674-F2B78C11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E6BF-A0FA-488B-BF77-5EC7A6D6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22BA-482D-4FC0-90C4-70FAE779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647B-BC69-4338-B8F2-6CAC231E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222F-BAC2-49AA-AF29-169BAC8E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2CA7-DD1E-4595-AD9C-43CDDC5F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000A-7430-446A-A323-B23673CD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08D4-F30E-4051-9E2F-3C4C4628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1821-68D9-4972-BCDF-8F321A36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4116-C079-4684-8F47-A010E5B8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67D0-C363-449B-890A-78548AAB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8CC5-B4AE-4FBE-9CF5-1BEA8340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ABE5-2406-46BB-8486-66DB5434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7A4E-A1DA-43A5-9E11-0E5F2398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3ACF-4462-41AA-9B83-C9BC4222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B16-C367-4E97-8D1F-F182CAC7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F386-91D9-400C-B08D-3C6C9A1E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1B42-7B48-4358-9083-E476274C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02CB-03AD-4F3E-912E-9AD2E257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DFC-2867-4F7D-9055-1DF2F47B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unr.edu/content/default.asp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nasa.gov/" TargetMode="External"/><Relationship Id="rId5" Type="http://schemas.openxmlformats.org/officeDocument/2006/relationships/image" Target="../media/image3.gif"/><Relationship Id="rId6" Type="http://schemas.openxmlformats.org/officeDocument/2006/relationships/image" Target="../media/image1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46280" y="762120"/>
              <a:ext cx="839628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cap="sq" w="12600">
            <a:solidFill>
              <a:srgbClr val="330099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0099"/>
                </a:solidFill>
                <a:latin typeface="Times New Roman"/>
              </a:defRPr>
            </a:lvl1pPr>
          </a:lstStyle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99"/>
                </a:solidFill>
                <a:latin typeface="Times New Roman"/>
              </a:rPr>
              <a:t>UNR - Computer Vision Labor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B6B6-20DE-462C-934F-E5E4A7CE76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762120"/>
            <a:ext cx="747720" cy="76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8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70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1433-FCB2-4510-9FF4-8CE499C1C4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The University of Nevada, Ren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762120"/>
            <a:ext cx="1981440" cy="795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Animated NASA logo in which the orbit element circles the word NASA. On subsidiary pages, clicking on this graphic returns you to the NASA Home page, http://www.nasa.gov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1320" y="762120"/>
            <a:ext cx="914400" cy="798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4253040" y="762120"/>
            <a:ext cx="776160" cy="790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7507440" y="762120"/>
            <a:ext cx="950760" cy="788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Eye Detection and Tracking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057400" y="49528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cott Fritzing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niversity of Nevada, Ren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ace detection has always been a difficult problem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henomena of reflection of infrared light by the pupil of the ey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Face Detect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Approach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se infrared illumination to take advantage of the “red-eye effect.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wo axis’ of IR illuminator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-axis: pupils appear wh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f-axis: pupils appear da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ifference images to obtain pupil positions, and therefore face location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Hardwar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ff-the-shelf web ca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640x480 Resolution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4-bit color, 30fp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867280" y="2362320"/>
            <a:ext cx="2225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Softwar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mple desig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urn on on-axis LEDs, save ima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reshold image to extract pupil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o mean distancing between candidate pupils to ‘pair up’ ey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Implementat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4952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mage before processing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3225600" cy="2419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638680" y="419112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828800" y="5105520"/>
            <a:ext cx="373392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mage after processing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Conclu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y robust in controlled lighting conditions (dark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unny’ conditions will saturate the camera with IR ligh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arget must be slow-moving or differencing will not wor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orks best when both eyes are expos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nsider as a supplement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Questions?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7:12:49Z</dcterms:created>
  <dc:creator>Scott</dc:creator>
  <dc:description/>
  <dc:language>en-US</dc:language>
  <cp:lastModifiedBy>bebis</cp:lastModifiedBy>
  <dcterms:modified xsi:type="dcterms:W3CDTF">2003-04-18T03:00:13Z</dcterms:modified>
  <cp:revision>7</cp:revision>
  <dc:subject/>
  <dc:title>Infrared Eye Detection</dc:title>
</cp:coreProperties>
</file>