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0346-F285-4DE8-B31F-E950ED5B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724D-55D6-4601-BDAA-3C5E6999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E9B-868F-44C0-927B-8C6A6499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F594-19D5-43A0-84F7-BC9ECAFD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94A1-410A-48AB-A4D9-E049D4DF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3C88-F769-4473-B434-F8511B16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B986-A074-4E83-A035-E5D1F49A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A8C7-CEC1-4CB5-87D8-586517CC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15DA-3E5C-4C73-BDD2-9672DDD2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55640" y="671400"/>
            <a:ext cx="85694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0327-FC0E-4D34-A935-0AD71EF7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7F79-4DEA-4C23-9C91-AE210C35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BE2B-D289-4D6D-9AAE-03CEC572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86D8-7B39-4782-8FAA-54F61734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89FB-FA9F-4B9E-94C8-DD6CE90F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0168-18DA-45D6-8375-E7BF9F37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F31F-8CBB-497F-BFE3-67BEBF97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4281-ADE0-4602-988F-256F21C5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9D9-6DA0-48BF-AF73-6D3611EA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A79F-D222-47BA-9273-46C93B49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EA9-359B-41C3-9ABB-B0638537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755640" y="671400"/>
            <a:ext cx="85694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740-1BB7-43BE-BD76-1B76AF9A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3417-D693-4727-A36F-D63E7798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0849-9CD9-4C0F-B2D4-625B9143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144-B58A-4DF7-92EB-1AA61B35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unr.edu/content/default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nasa.gov/" TargetMode="External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55640" y="130320"/>
            <a:ext cx="9322920" cy="7427520"/>
            <a:chOff x="755640" y="130320"/>
            <a:chExt cx="9322920" cy="7427520"/>
          </a:xfrm>
        </p:grpSpPr>
        <p:sp>
          <p:nvSpPr>
            <p:cNvPr id="1" name=""/>
            <p:cNvSpPr/>
            <p:nvPr/>
          </p:nvSpPr>
          <p:spPr>
            <a:xfrm>
              <a:off x="755640" y="7307640"/>
              <a:ext cx="3864240" cy="25020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5002920" y="7436880"/>
              <a:ext cx="4776120" cy="71280"/>
              <a:chOff x="5002920" y="7436880"/>
              <a:chExt cx="4776120" cy="71280"/>
            </a:xfrm>
          </p:grpSpPr>
          <p:sp>
            <p:nvSpPr>
              <p:cNvPr id="3" name=""/>
              <p:cNvSpPr/>
              <p:nvPr/>
            </p:nvSpPr>
            <p:spPr>
              <a:xfrm>
                <a:off x="5002920" y="7436880"/>
                <a:ext cx="73800" cy="7128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675040" y="7436880"/>
                <a:ext cx="73080" cy="7128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346800" y="7436880"/>
                <a:ext cx="71640" cy="7128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018920" y="7436880"/>
                <a:ext cx="71640" cy="7128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91040" y="7436880"/>
                <a:ext cx="73080" cy="7128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363160" y="7436880"/>
                <a:ext cx="73080" cy="7128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9034920" y="7436880"/>
                <a:ext cx="73800" cy="7128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707400" y="7436880"/>
                <a:ext cx="71640" cy="7128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822240" y="840960"/>
              <a:ext cx="9256320" cy="8395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6680" y="130320"/>
              <a:ext cx="73080" cy="73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6680" y="384120"/>
              <a:ext cx="73080" cy="7164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6680" y="633960"/>
              <a:ext cx="73080" cy="7164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25236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3" marL="1763640" indent="-25236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4" marL="2268360" indent="-25236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5" marL="2268360" indent="-25236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6" marL="2268360" indent="-25236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444840" y="6888240"/>
            <a:ext cx="3611520" cy="503280"/>
          </a:xfrm>
          <a:prstGeom prst="rect">
            <a:avLst/>
          </a:prstGeom>
          <a:noFill/>
          <a:ln cap="sq" w="12600">
            <a:solidFill>
              <a:srgbClr val="330099"/>
            </a:solidFill>
            <a:miter/>
          </a:ln>
        </p:spPr>
        <p:txBody>
          <a:bodyPr lIns="100800" rIns="100800" tIns="50400" bIns="504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800" spc="-1" strike="noStrike">
                <a:solidFill>
                  <a:srgbClr val="330099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UNR - Computer Vision Labor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7898FDF7-EAF7-4AFB-B2BB-5B7FBD44AC14}" type="slidenum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839880"/>
            <a:ext cx="824040" cy="83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30320"/>
            <a:ext cx="10078560" cy="7427520"/>
            <a:chOff x="0" y="130320"/>
            <a:chExt cx="10078560" cy="7427520"/>
          </a:xfrm>
        </p:grpSpPr>
        <p:sp>
          <p:nvSpPr>
            <p:cNvPr id="58" name=""/>
            <p:cNvSpPr/>
            <p:nvPr/>
          </p:nvSpPr>
          <p:spPr>
            <a:xfrm>
              <a:off x="756000" y="7197480"/>
              <a:ext cx="3864240" cy="3603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6000" y="2688120"/>
              <a:ext cx="9322560" cy="83988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70920" y="130320"/>
              <a:ext cx="73800" cy="73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70920" y="384120"/>
              <a:ext cx="73800" cy="7164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70920" y="633960"/>
              <a:ext cx="73800" cy="7164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70920" y="1140120"/>
              <a:ext cx="73800" cy="7164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70920" y="1389960"/>
              <a:ext cx="73800" cy="73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70920" y="1643760"/>
              <a:ext cx="73800" cy="7164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70920" y="1893960"/>
              <a:ext cx="73800" cy="7164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70920" y="2147760"/>
              <a:ext cx="73800" cy="6948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70920" y="2399760"/>
              <a:ext cx="73800" cy="7164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5003280" y="7353360"/>
              <a:ext cx="4775760" cy="70920"/>
              <a:chOff x="5003280" y="7353360"/>
              <a:chExt cx="4775760" cy="70920"/>
            </a:xfrm>
          </p:grpSpPr>
          <p:sp>
            <p:nvSpPr>
              <p:cNvPr id="70" name=""/>
              <p:cNvSpPr/>
              <p:nvPr/>
            </p:nvSpPr>
            <p:spPr>
              <a:xfrm>
                <a:off x="5003280" y="7353360"/>
                <a:ext cx="73800" cy="7092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675400" y="7353360"/>
                <a:ext cx="73080" cy="7092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47160" y="7353360"/>
                <a:ext cx="71640" cy="7092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18920" y="7353360"/>
                <a:ext cx="71640" cy="7092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91400" y="7353360"/>
                <a:ext cx="73080" cy="7092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363160" y="7353360"/>
                <a:ext cx="73080" cy="7092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9034920" y="7353360"/>
                <a:ext cx="73800" cy="7092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707400" y="7353360"/>
                <a:ext cx="71640" cy="7092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970920" y="888120"/>
              <a:ext cx="73800" cy="6948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4072320"/>
              <a:ext cx="2104920" cy="2104560"/>
              <a:chOff x="0" y="4072320"/>
              <a:chExt cx="2104920" cy="210456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4189680"/>
                <a:ext cx="775080" cy="18072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63120" y="4072320"/>
                <a:ext cx="1441800" cy="210456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27360" y="4959360"/>
                <a:ext cx="110160" cy="12744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51928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9087A06A-3DC1-4995-829A-753304E73B0E}" type="slidenum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The University of Nevada, Ren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9400" y="839880"/>
            <a:ext cx="2184480" cy="876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Animated NASA logo in which the orbit element circles the word NASA. On subsidiary pages, clicking on this graphic returns you to the NASA Home page, http://www.nasa.gov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84960" y="839880"/>
            <a:ext cx="1008000" cy="880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4687920" y="839880"/>
            <a:ext cx="857160" cy="871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8275680" y="839880"/>
            <a:ext cx="1049400" cy="869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503280" indent="0" algn="ctr">
              <a:spcBef>
                <a:spcPts val="5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80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1128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algn="ctr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8480" y="24703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VGX Hardware Implement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63560" y="5287680"/>
            <a:ext cx="860904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cott Fritzinger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University of Nevada, Reno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Box Mock-up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840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weight PVC pi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-density pressed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ily reconfigu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unt extra came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t h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d extra sup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expens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ral can be made for low-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ue/green screen backdr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ckground rem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403960" y="2179800"/>
            <a:ext cx="4208400" cy="31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I/O Bus Decis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1676160"/>
            <a:ext cx="86090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imes New Roman"/>
              </a:rPr>
              <a:t>Required Throughpu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8 cameras, 30fp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252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9.22 MB/s of grayscale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252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27.6 MB/s of RGB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imes New Roman"/>
              </a:rPr>
              <a:t>On-board bus consideration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CI Bus: 133 – 266 MB/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imes New Roman"/>
              </a:rPr>
              <a:t>Camera bus consideration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USB: 1.5 MB/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USB 2.0: 60 MB/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FireWire (IEEE1394): 50 MB/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imes New Roman"/>
              </a:rPr>
              <a:t>FireWire – Off-the-shelf component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amera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280" y="2184120"/>
            <a:ext cx="621828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imes New Roman"/>
              </a:rPr>
              <a:t>PT Grey DragonFly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Self-synchronizing (required for reconstruct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640x480 30fp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Raw Bayer dat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252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lor for no cost in bandwid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252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verhead added in image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Several Mounting Op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252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-bracket and full box enclos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Various Lens Op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252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-Mount lens option for off-the-shelf l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91520" y="4038480"/>
            <a:ext cx="2190600" cy="2190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102440" y="1287360"/>
            <a:ext cx="2597040" cy="2340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934320" y="3186000"/>
            <a:ext cx="2590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agonFly Came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Dimensions: 2” x 2“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62485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mple Bayer Patter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apture Softwar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2184120"/>
            <a:ext cx="8277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imes New Roman"/>
              </a:rPr>
              <a:t>Linux 2.4.20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FireWire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Custom configuration for higher performan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imes New Roman"/>
              </a:rPr>
              <a:t>Custom-made capture software for high-throughpu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imes New Roman"/>
              </a:rPr>
              <a:t>DMA for fast transfer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imes New Roman"/>
              </a:rPr>
              <a:t>Journaled file-system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Fast reads/wri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imes New Roman"/>
              </a:rPr>
              <a:t>Output buffering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Fewer disc writes with larger data bloc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Video File Playback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2184120"/>
            <a:ext cx="8570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Video files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aw Bayer dat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tandard PGM header with comments for format extens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llows quick preview in any PGM compliant image view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QT 3.1 Interface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apid develop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ross-Platform (Linux, Windows, M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1080" y="334476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Questions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8480" y="609480"/>
            <a:ext cx="86090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VGX Hardware Implemen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tt</cp:lastModifiedBy>
  <dcterms:modified xsi:type="dcterms:W3CDTF">2003-04-18T17:09:11Z</dcterms:modified>
  <cp:revision>7</cp:revision>
  <dc:subject/>
  <dc:title>VGX Hardware Implementation</dc:title>
</cp:coreProperties>
</file>