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8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9.jpeg" ContentType="image/jpeg"/>
  <Override PartName="/ppt/media/image1.jpeg" ContentType="image/jpeg"/>
  <Override PartName="/ppt/media/image7.png" ContentType="image/png"/>
  <Override PartName="/ppt/media/image12.png" ContentType="image/png"/>
  <Override PartName="/ppt/media/image4.png" ContentType="image/png"/>
  <Override PartName="/ppt/media/image3.gif" ContentType="image/gif"/>
  <Override PartName="/ppt/media/image6.png" ContentType="image/pn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07DA9-F915-4492-B062-839835164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A9C06-FF95-447A-A139-C0DF07D11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20952-6B69-4970-ADDA-7CC97BE22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B7BD5-9D12-4741-8E21-7F288470D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902A6-0511-4DA4-8020-FD72D09F3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22680-5475-44D0-BD2D-4EE56116A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5074C-A745-46A3-9984-433104D5F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5AE81-5C2A-4B24-A5E9-28C0F1F30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49B3B-5A5F-4592-BD8B-A1E84F3E8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0BBC7-D075-432D-8D47-BD0258CB7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8FFD4-38E5-4961-B99D-167B8F74B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5A660-1683-4424-893E-189D34657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56EA4-ACFC-43DD-B3DE-C079600ED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2840F-C7DB-461C-A006-C29C6729B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EF872-55E7-4B05-8DA6-3DB18E868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4B27D-5F2C-4C60-98B7-DD8A52BB1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05CA6-10FD-4642-9B6D-F301EDAA6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ADB85-A329-45A6-BDBB-97790E73D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640F5-A7F1-49C0-8065-4D1111667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132A1-62BE-4C14-BC1E-A779C818C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2BEEE-3B7F-4689-B0FA-68D23B4E2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63A19-201F-48AA-8648-00D8089B5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0219A-555F-4BA0-91E2-722164B99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77FB2-A73F-4F38-B36B-816F9BFB1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hyperlink" Target="http://www.unr.edu/content/default.asp" TargetMode="External"/><Relationship Id="rId3" Type="http://schemas.openxmlformats.org/officeDocument/2006/relationships/image" Target="../media/image2.png"/><Relationship Id="rId4" Type="http://schemas.openxmlformats.org/officeDocument/2006/relationships/hyperlink" Target="http://www.nasa.gov/" TargetMode="External"/><Relationship Id="rId5" Type="http://schemas.openxmlformats.org/officeDocument/2006/relationships/image" Target="../media/image3.gif"/><Relationship Id="rId6" Type="http://schemas.openxmlformats.org/officeDocument/2006/relationships/image" Target="../media/image1.jpe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46280" y="762120"/>
              <a:ext cx="839628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6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3276720" cy="457200"/>
          </a:xfrm>
          <a:prstGeom prst="rect">
            <a:avLst/>
          </a:prstGeom>
          <a:noFill/>
          <a:ln cap="sq" w="12600">
            <a:solidFill>
              <a:srgbClr val="330099"/>
            </a:solidFill>
            <a:miter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330099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0099"/>
                </a:solidFill>
                <a:latin typeface="Times New Roman"/>
              </a:rPr>
              <a:t>UNR - Computer Vision Laborat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4FBAF-29C8-4167-9397-16CDDB25916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" name="" descr=""/>
          <p:cNvPicPr/>
          <p:nvPr/>
        </p:nvPicPr>
        <p:blipFill>
          <a:blip r:embed="rId2">
            <a:lum bright="-12000"/>
          </a:blip>
          <a:stretch/>
        </p:blipFill>
        <p:spPr>
          <a:xfrm>
            <a:off x="0" y="762120"/>
            <a:ext cx="747720" cy="761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8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9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70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8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9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80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BC0E4-9A72-4085-89FC-A4B7DECD82C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" descr="The University of Nevada, Reno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523880" y="762120"/>
            <a:ext cx="1981440" cy="79524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Animated NASA logo in which the orbit element circles the word NASA. On subsidiary pages, clicking on this graphic returns you to the NASA Home page, http://www.nasa.gov.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791320" y="762120"/>
            <a:ext cx="914400" cy="7984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6">
            <a:lum bright="-12000"/>
          </a:blip>
          <a:stretch/>
        </p:blipFill>
        <p:spPr>
          <a:xfrm>
            <a:off x="4253040" y="762120"/>
            <a:ext cx="776160" cy="79056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7"/>
          <a:stretch/>
        </p:blipFill>
        <p:spPr>
          <a:xfrm>
            <a:off x="7507440" y="762120"/>
            <a:ext cx="950760" cy="78876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00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349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3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3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bcbcb"/>
                </a:solidFill>
                <a:latin typeface="Times New Roman"/>
              </a:rPr>
              <a:t>Global Hand Pose Estimation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20574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Jorge H. Usabiaga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bcbcb"/>
                </a:solidFill>
                <a:latin typeface="Times New Roman"/>
              </a:rPr>
              <a:t>2- Ellipse Fitting 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Direct Least Squares Metho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Non-iterative ellipse fitting algorithm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Solved by a generalized eigen-problem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Good trade-off between speed and accuracy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Good results with good edge point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bcbcb"/>
                </a:solidFill>
                <a:latin typeface="Times New Roman"/>
              </a:rPr>
              <a:t>2- Ellipse Fitting 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Implicit equation of a conic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Minimize                       subject to                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2352600" y="3962520"/>
                <a:ext cx="130968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3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5105520" y="3962520"/>
                <a:ext cx="1690560" cy="40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ac</m:t>
                    </m:r>
                    <m:r>
                      <m:t xml:space="preserve">&l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1054080" y="2514600"/>
                <a:ext cx="6754680" cy="5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,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px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bxy</m:t>
                    </m:r>
                    <m:r>
                      <m:t xml:space="preserve">+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d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ey</m:t>
                    </m:r>
                    <m:r>
                      <m:t xml:space="preserve">+</m:t>
                    </m:r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8" name=""/>
              <p:cNvSpPr txBox="1"/>
              <p:nvPr/>
            </p:nvSpPr>
            <p:spPr>
              <a:xfrm>
                <a:off x="1066680" y="3200400"/>
                <a:ext cx="278784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a</m:t>
                              </m:r>
                            </m:e>
                            <m:e>
                              <m:r>
                                <m:t xml:space="preserve">b</m:t>
                              </m:r>
                            </m:e>
                            <m:e>
                              <m:r>
                                <m:t xml:space="preserve">c</m:t>
                              </m:r>
                            </m:e>
                            <m:e>
                              <m:r>
                                <m:t xml:space="preserve">d</m:t>
                              </m:r>
                            </m:e>
                            <m:e>
                              <m:r>
                                <m:t xml:space="preserve">e</m:t>
                              </m:r>
                            </m:e>
                            <m:e>
                              <m:r>
                                <m:t xml:space="preserve">f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3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4724280" y="3200400"/>
                <a:ext cx="3181320" cy="50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p>
                                <m:e>
                                  <m:r>
                                    <m:t xml:space="preserve">x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xy</m:t>
                              </m:r>
                            </m:e>
                            <m:e>
                              <m:sSup>
                                <m:e>
                                  <m:r>
                                    <m:t xml:space="preserve">y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  <m:e>
                              <m:r>
                                <m:t xml:space="preserve">x</m:t>
                              </m:r>
                            </m:e>
                            <m:e>
                              <m:r>
                                <m:t xml:space="preserve">y</m:t>
                              </m:r>
                            </m:e>
                            <m:e>
                              <m:sSup>
                                <m:e>
                                  <m:r>
                                    <m:t xml:space="preserve">1</m:t>
                                  </m:r>
                                </m:e>
                                <m:sup>
                                  <m:r>
                                    <m:t xml:space="preserve">T</m:t>
                                  </m:r>
                                </m:sup>
                              </m:sSup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41" name=""/>
          <p:cNvSpPr/>
          <p:nvPr/>
        </p:nvSpPr>
        <p:spPr>
          <a:xfrm>
            <a:off x="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2" name=""/>
              <p:cNvSpPr txBox="1"/>
              <p:nvPr/>
            </p:nvSpPr>
            <p:spPr>
              <a:xfrm>
                <a:off x="2695680" y="4618080"/>
                <a:ext cx="3449520" cy="13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Sp</m:t>
                        </m:r>
                        <m:r>
                          <m:t xml:space="preserve">=</m:t>
                        </m:r>
                        <m:r>
                          <m:t xml:space="preserve">λ</m:t>
                        </m:r>
                        <m:r>
                          <m:rPr>
                            <m:lit/>
                            <m:nor/>
                          </m:rPr>
                          <m:t xml:space="preserve">Cp</m:t>
                        </m:r>
                      </m:e>
                      <m:e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Cp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bcbcb"/>
                </a:solidFill>
                <a:latin typeface="Times New Roman"/>
              </a:rPr>
              <a:t>2-Ellipse fitting </a:t>
            </a:r>
            <a:r>
              <a:rPr b="0" lang="en-US" sz="3200" spc="-1" strike="noStrike">
                <a:solidFill>
                  <a:srgbClr val="cbcbcb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cbcbcb"/>
                </a:solidFill>
                <a:latin typeface="Times New Roman"/>
              </a:rPr>
              <a:t> 3-Ellipse Correspondence</a:t>
            </a:r>
            <a:endParaRPr b="0" lang="en-US" sz="32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1719360" y="1981080"/>
            <a:ext cx="57038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bcbcb"/>
                </a:solidFill>
                <a:latin typeface="Times New Roman"/>
              </a:rPr>
              <a:t>3- Ellipse correspondence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1719360" y="1981080"/>
            <a:ext cx="57038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bcbcb"/>
                </a:solidFill>
                <a:latin typeface="Times New Roman"/>
              </a:rPr>
              <a:t>4- Pose from two coplanar ellipses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1295280" y="1771560"/>
                <a:ext cx="182880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M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M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sSup>
                          <m:e>
                            <m:r>
                              <m:t xml:space="preserve">M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M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49" name=""/>
          <p:cNvSpPr/>
          <p:nvPr/>
        </p:nvSpPr>
        <p:spPr>
          <a:xfrm>
            <a:off x="3505320" y="2057400"/>
            <a:ext cx="1523880" cy="368280"/>
          </a:xfrm>
          <a:prstGeom prst="rect">
            <a:avLst/>
          </a:prstGeom>
          <a:noFill/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Ellipses pla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257800" y="2133720"/>
            <a:ext cx="747720" cy="257040"/>
          </a:xfrm>
          <a:prstGeom prst="rightArrow">
            <a:avLst>
              <a:gd name="adj1" fmla="val 50000"/>
              <a:gd name="adj2" fmla="val 72724"/>
            </a:avLst>
          </a:prstGeom>
          <a:noFill/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411880" y="1828800"/>
            <a:ext cx="33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324480" y="2057400"/>
            <a:ext cx="1371600" cy="368280"/>
          </a:xfrm>
          <a:prstGeom prst="rect">
            <a:avLst/>
          </a:prstGeom>
          <a:noFill/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Image pla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286000" y="2895480"/>
            <a:ext cx="464832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4" name=""/>
              <p:cNvSpPr txBox="1"/>
              <p:nvPr/>
            </p:nvSpPr>
            <p:spPr>
              <a:xfrm>
                <a:off x="2973240" y="3098880"/>
                <a:ext cx="3181320" cy="105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2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</m:sub>
                        </m:sSub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U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q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2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</m:sub>
                        </m:s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q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U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q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55" name=""/>
          <p:cNvSpPr/>
          <p:nvPr/>
        </p:nvSpPr>
        <p:spPr>
          <a:xfrm>
            <a:off x="2286000" y="4419720"/>
            <a:ext cx="464832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1297080" y="4788000"/>
                <a:ext cx="1753920" cy="50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M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M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q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57" name=""/>
          <p:cNvSpPr/>
          <p:nvPr/>
        </p:nvSpPr>
        <p:spPr>
          <a:xfrm>
            <a:off x="3124080" y="4876920"/>
            <a:ext cx="747720" cy="257040"/>
          </a:xfrm>
          <a:prstGeom prst="rightArrow">
            <a:avLst>
              <a:gd name="adj1" fmla="val 50000"/>
              <a:gd name="adj2" fmla="val 72724"/>
            </a:avLst>
          </a:prstGeom>
          <a:noFill/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5524560" y="4800600"/>
                <a:ext cx="1957320" cy="52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WU</m:t>
                        </m:r>
                      </m:e>
                      <m:sub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9" name=""/>
              <p:cNvSpPr txBox="1"/>
              <p:nvPr/>
            </p:nvSpPr>
            <p:spPr>
              <a:xfrm>
                <a:off x="4038480" y="4876920"/>
                <a:ext cx="28440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0" name=""/>
          <p:cNvSpPr/>
          <p:nvPr/>
        </p:nvSpPr>
        <p:spPr>
          <a:xfrm>
            <a:off x="4572000" y="4876920"/>
            <a:ext cx="747720" cy="257040"/>
          </a:xfrm>
          <a:prstGeom prst="rightArrow">
            <a:avLst>
              <a:gd name="adj1" fmla="val 50000"/>
              <a:gd name="adj2" fmla="val 72724"/>
            </a:avLst>
          </a:prstGeom>
          <a:noFill/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bcbcb"/>
                </a:solidFill>
                <a:latin typeface="Times New Roman"/>
              </a:rPr>
              <a:t>Global Hand Pose Estimation Video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1523880" y="175248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262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262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2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bcbcb"/>
                </a:solidFill>
                <a:latin typeface="Times New Roman"/>
              </a:rPr>
              <a:t>Future Work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eprocessing (Hough Transform, color…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racking (Kalman Filtering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ultiple camer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ic-based Stere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planar conic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D Tracker (ground truth verification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bcbcb"/>
                </a:solidFill>
                <a:latin typeface="Times New Roman"/>
              </a:rPr>
              <a:t>Questions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267080" y="2666880"/>
            <a:ext cx="635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bcbcb"/>
                </a:solidFill>
                <a:latin typeface="Times New Roman"/>
              </a:rPr>
              <a:t>Ellipse Detection + Palm State Estimation</a:t>
            </a:r>
            <a:endParaRPr b="0" lang="en-US" sz="3200" spc="-1" strike="noStrike">
              <a:solidFill>
                <a:srgbClr val="cbcbcb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1447920" y="1523880"/>
            <a:ext cx="6629400" cy="4648320"/>
            <a:chOff x="1447920" y="1523880"/>
            <a:chExt cx="6629400" cy="4648320"/>
          </a:xfrm>
        </p:grpSpPr>
        <p:sp>
          <p:nvSpPr>
            <p:cNvPr id="132" name=""/>
            <p:cNvSpPr/>
            <p:nvPr/>
          </p:nvSpPr>
          <p:spPr>
            <a:xfrm>
              <a:off x="1981080" y="3092400"/>
              <a:ext cx="2286000" cy="365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0640" rIns="80640" tIns="40320" bIns="4032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Tahoma"/>
                </a:rPr>
                <a:t>Segmentation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854360" y="3898800"/>
              <a:ext cx="2550960" cy="365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0640" rIns="80640" tIns="36720" bIns="4032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Tahoma"/>
                </a:rPr>
                <a:t>3D Reconstruction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346480" y="2614680"/>
              <a:ext cx="1440" cy="476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970360" y="2625840"/>
              <a:ext cx="2880" cy="46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038480" y="2629080"/>
              <a:ext cx="1800" cy="452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081240" y="2684520"/>
              <a:ext cx="76860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Tahoma"/>
                </a:rPr>
                <a:t>……</a:t>
              </a:r>
              <a:r>
                <a:rPr b="0" lang="en-US" sz="900" spc="-1" strike="noStrike">
                  <a:solidFill>
                    <a:srgbClr val="ffffff"/>
                  </a:solidFill>
                  <a:latin typeface="Tahoma"/>
                </a:rPr>
                <a:t>..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092400" y="3460680"/>
              <a:ext cx="1800" cy="41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098880" y="4265640"/>
              <a:ext cx="1440" cy="41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070080" y="3511440"/>
              <a:ext cx="161640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ahoma"/>
                </a:rPr>
                <a:t>Silhouette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035160" y="2738520"/>
              <a:ext cx="914400" cy="31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ahoma"/>
                </a:rPr>
                <a:t>Image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793960" y="4670280"/>
              <a:ext cx="3379680" cy="503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0640" rIns="80640" tIns="36720" bIns="4032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Tahoma"/>
                </a:rPr>
                <a:t>Hand State Estimation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791320" y="3468600"/>
              <a:ext cx="0" cy="416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 flipH="1">
              <a:off x="1576080" y="3259080"/>
              <a:ext cx="3762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557360" y="3259080"/>
              <a:ext cx="0" cy="80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565280" y="4062240"/>
              <a:ext cx="285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547640" y="3533760"/>
              <a:ext cx="1441800" cy="27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ahoma"/>
                </a:rPr>
                <a:t>Finger Region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648320" y="3092400"/>
              <a:ext cx="2286000" cy="365040"/>
            </a:xfrm>
            <a:prstGeom prst="rect">
              <a:avLst/>
            </a:prstGeom>
            <a:noFill/>
            <a:ln w="2844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0640" rIns="80640" tIns="40320" bIns="4032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Tahoma"/>
                </a:rPr>
                <a:t>Ellipse Detection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823000" y="3463920"/>
              <a:ext cx="16160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ahoma"/>
                </a:rPr>
                <a:t>Ellipse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573440" y="3887640"/>
              <a:ext cx="2525760" cy="365400"/>
            </a:xfrm>
            <a:prstGeom prst="rect">
              <a:avLst/>
            </a:prstGeom>
            <a:noFill/>
            <a:ln w="2844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720" bIns="4032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Tahoma"/>
                </a:rPr>
                <a:t>Palm State Estimation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068640" y="4297320"/>
              <a:ext cx="1820880" cy="31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ahoma"/>
                </a:rPr>
                <a:t>3D Volume Imag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830920" y="4200480"/>
              <a:ext cx="2246400" cy="41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ahoma"/>
                </a:rPr>
                <a:t>Orientation and Position of Palm (6 DOF)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791320" y="4254480"/>
              <a:ext cx="1440" cy="41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285080" y="3868560"/>
              <a:ext cx="11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ahoma"/>
                </a:rPr>
                <a:t>  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897200" y="1841400"/>
              <a:ext cx="4627440" cy="78444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1984320" y="1886040"/>
              <a:ext cx="1065240" cy="672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7" name="" descr=""/>
            <p:cNvPicPr/>
            <p:nvPr/>
          </p:nvPicPr>
          <p:blipFill>
            <a:blip r:embed="rId2"/>
            <a:stretch/>
          </p:blipFill>
          <p:spPr>
            <a:xfrm>
              <a:off x="3116160" y="1886040"/>
              <a:ext cx="1046160" cy="672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" name="" descr=""/>
            <p:cNvPicPr/>
            <p:nvPr/>
          </p:nvPicPr>
          <p:blipFill>
            <a:blip r:embed="rId3"/>
            <a:stretch/>
          </p:blipFill>
          <p:spPr>
            <a:xfrm>
              <a:off x="4230720" y="1886040"/>
              <a:ext cx="1063440" cy="67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9" name="" descr=""/>
            <p:cNvPicPr/>
            <p:nvPr/>
          </p:nvPicPr>
          <p:blipFill>
            <a:blip r:embed="rId4"/>
            <a:stretch/>
          </p:blipFill>
          <p:spPr>
            <a:xfrm>
              <a:off x="5362560" y="1886040"/>
              <a:ext cx="1069920" cy="67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"/>
            <p:cNvSpPr/>
            <p:nvPr/>
          </p:nvSpPr>
          <p:spPr>
            <a:xfrm>
              <a:off x="5791320" y="2639880"/>
              <a:ext cx="1440" cy="446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796000" y="2678040"/>
              <a:ext cx="18986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ahoma"/>
                </a:rPr>
                <a:t>Selected View(s)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62" name=""/>
            <p:cNvGrpSpPr/>
            <p:nvPr/>
          </p:nvGrpSpPr>
          <p:grpSpPr>
            <a:xfrm>
              <a:off x="3505320" y="5580000"/>
              <a:ext cx="2057040" cy="592200"/>
              <a:chOff x="3505320" y="5580000"/>
              <a:chExt cx="2057040" cy="592200"/>
            </a:xfrm>
          </p:grpSpPr>
          <p:sp>
            <p:nvSpPr>
              <p:cNvPr id="163" name=""/>
              <p:cNvSpPr/>
              <p:nvPr/>
            </p:nvSpPr>
            <p:spPr>
              <a:xfrm>
                <a:off x="3573000" y="5658840"/>
                <a:ext cx="1989360" cy="51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6160" rIns="56160" tIns="28080" bIns="2808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7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7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3505320" y="5580000"/>
                <a:ext cx="1905120" cy="550080"/>
              </a:xfrm>
              <a:prstGeom prst="roundRect">
                <a:avLst>
                  <a:gd name="adj" fmla="val 16667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65" name=""/>
            <p:cNvSpPr/>
            <p:nvPr/>
          </p:nvSpPr>
          <p:spPr>
            <a:xfrm>
              <a:off x="3373560" y="5619600"/>
              <a:ext cx="2233440" cy="47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6160" rIns="56160" tIns="28080" bIns="28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Hand Position +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Joint Angle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416480" y="5189400"/>
              <a:ext cx="1440" cy="41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911240" y="1523880"/>
              <a:ext cx="4645080" cy="28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ynchronized images from different view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68" name=""/>
            <p:cNvGrpSpPr/>
            <p:nvPr/>
          </p:nvGrpSpPr>
          <p:grpSpPr>
            <a:xfrm>
              <a:off x="1447920" y="4683240"/>
              <a:ext cx="1112400" cy="617400"/>
              <a:chOff x="1447920" y="4683240"/>
              <a:chExt cx="1112400" cy="617400"/>
            </a:xfrm>
          </p:grpSpPr>
          <p:sp>
            <p:nvSpPr>
              <p:cNvPr id="169" name=""/>
              <p:cNvSpPr/>
              <p:nvPr/>
            </p:nvSpPr>
            <p:spPr>
              <a:xfrm>
                <a:off x="1484280" y="4765320"/>
                <a:ext cx="1076040" cy="535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6160" rIns="56160" tIns="28080" bIns="28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ffffff"/>
                    </a:solidFill>
                    <a:latin typeface="Arial"/>
                  </a:rPr>
                  <a:t>Volumetric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ffffff"/>
                    </a:solidFill>
                    <a:latin typeface="Arial"/>
                  </a:rPr>
                  <a:t>Hand Model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1447920" y="4683240"/>
                <a:ext cx="1030680" cy="573480"/>
              </a:xfrm>
              <a:prstGeom prst="roundRect">
                <a:avLst>
                  <a:gd name="adj" fmla="val 16667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71" name=""/>
            <p:cNvGrpSpPr/>
            <p:nvPr/>
          </p:nvGrpSpPr>
          <p:grpSpPr>
            <a:xfrm>
              <a:off x="1509840" y="5427720"/>
              <a:ext cx="1109520" cy="569520"/>
              <a:chOff x="1509840" y="5427720"/>
              <a:chExt cx="1109520" cy="569520"/>
            </a:xfrm>
          </p:grpSpPr>
          <p:sp>
            <p:nvSpPr>
              <p:cNvPr id="172" name=""/>
              <p:cNvSpPr/>
              <p:nvPr/>
            </p:nvSpPr>
            <p:spPr>
              <a:xfrm>
                <a:off x="1546200" y="5503320"/>
                <a:ext cx="1073160" cy="49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6160" rIns="56160" tIns="28080" bIns="28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ffffff"/>
                    </a:solidFill>
                    <a:latin typeface="Arial"/>
                  </a:rPr>
                  <a:t>Hand Model Constraints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1509840" y="5427720"/>
                <a:ext cx="1027440" cy="529200"/>
              </a:xfrm>
              <a:prstGeom prst="roundRect">
                <a:avLst>
                  <a:gd name="adj" fmla="val 16667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74" name=""/>
            <p:cNvSpPr/>
            <p:nvPr/>
          </p:nvSpPr>
          <p:spPr>
            <a:xfrm>
              <a:off x="2490840" y="4821120"/>
              <a:ext cx="282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V="1">
              <a:off x="2610000" y="4967280"/>
              <a:ext cx="0" cy="63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610000" y="4967280"/>
              <a:ext cx="163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535120" y="5602320"/>
              <a:ext cx="68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410080" y="5867280"/>
              <a:ext cx="53352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943600" y="5638680"/>
              <a:ext cx="1828800" cy="503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0640" rIns="80640" tIns="36720" bIns="4032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Tahoma"/>
                </a:rPr>
                <a:t>Visualization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bcbcb"/>
                </a:solidFill>
                <a:latin typeface="Times New Roman"/>
              </a:rPr>
              <a:t>Introduction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alm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plana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llipse preserved under perspective and projective transforma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ose from two ellipses is an overdetermined problem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coplanar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closed-form solution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wo coplanar ellipses have two invaria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4191120"/>
            <a:ext cx="333360" cy="442800"/>
          </a:xfrm>
          <a:prstGeom prst="downArrow">
            <a:avLst>
              <a:gd name="adj1" fmla="val 50000"/>
              <a:gd name="adj2" fmla="val 3320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133720" y="4800600"/>
            <a:ext cx="180720" cy="366840"/>
          </a:xfrm>
          <a:prstGeom prst="downArrow">
            <a:avLst>
              <a:gd name="adj1" fmla="val 50000"/>
              <a:gd name="adj2" fmla="val 507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943600" y="2362320"/>
            <a:ext cx="20732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613560" y="2373480"/>
            <a:ext cx="17683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5791320" y="1981080"/>
            <a:ext cx="2367000" cy="38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bcbcb"/>
                </a:solidFill>
                <a:latin typeface="Times New Roman"/>
              </a:rPr>
              <a:t>Ellipse Quadratic Form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2916360" y="2327400"/>
                <a:ext cx="2938320" cy="72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b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0" name=""/>
          <p:cNvSpPr/>
          <p:nvPr/>
        </p:nvSpPr>
        <p:spPr>
          <a:xfrm>
            <a:off x="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1" name=""/>
              <p:cNvSpPr txBox="1"/>
              <p:nvPr/>
            </p:nvSpPr>
            <p:spPr>
              <a:xfrm>
                <a:off x="1811160" y="3352680"/>
                <a:ext cx="5294520" cy="20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a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b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  <m:r>
                      <m:t xml:space="preserve">x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Cx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bcbcb"/>
                </a:solidFill>
                <a:latin typeface="Times New Roman"/>
              </a:rPr>
              <a:t>Coordinate Systems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3124080"/>
            <a:ext cx="0" cy="16765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19520" y="3124080"/>
            <a:ext cx="2057400" cy="68580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876920" y="3809880"/>
            <a:ext cx="0" cy="16765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4800600"/>
            <a:ext cx="2057400" cy="68580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rot="1800000">
            <a:off x="5711400" y="2668320"/>
            <a:ext cx="1981440" cy="990360"/>
          </a:xfrm>
          <a:prstGeom prst="ellipse">
            <a:avLst/>
          </a:prstGeom>
          <a:solidFill>
            <a:srgbClr val="ff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rot="1800000">
            <a:off x="6172200" y="2895480"/>
            <a:ext cx="1066680" cy="5335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1523880" y="2666880"/>
            <a:ext cx="4267440" cy="2590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1523880" y="3809880"/>
            <a:ext cx="5943600" cy="1447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523880" y="5257800"/>
            <a:ext cx="2057400" cy="68580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523880" y="5257800"/>
            <a:ext cx="0" cy="121932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1523880" y="4343400"/>
            <a:ext cx="2286000" cy="91440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V="1">
            <a:off x="3809880" y="3809880"/>
            <a:ext cx="1524240" cy="5335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144800" y="586728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354480" y="556272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125520" y="4267080"/>
            <a:ext cx="2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705720" y="3200400"/>
            <a:ext cx="1218960" cy="68580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flipV="1">
            <a:off x="6705720" y="2362320"/>
            <a:ext cx="228600" cy="83160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V="1">
            <a:off x="6705720" y="2362320"/>
            <a:ext cx="609480" cy="83808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7850520" y="350532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317000" y="243828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54520" y="2209680"/>
            <a:ext cx="2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rot="1800000">
            <a:off x="3717720" y="3901680"/>
            <a:ext cx="1066680" cy="536760"/>
          </a:xfrm>
          <a:prstGeom prst="ellipse">
            <a:avLst/>
          </a:prstGeom>
          <a:solidFill>
            <a:srgbClr val="ff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 rot="1800000">
            <a:off x="3962160" y="4038480"/>
            <a:ext cx="609480" cy="3049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895120" y="2895480"/>
            <a:ext cx="106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mage plan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912960" y="4114800"/>
            <a:ext cx="97776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mera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ordinat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yste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755120" y="2373480"/>
            <a:ext cx="97776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al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ordinat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yste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bcbcb"/>
                </a:solidFill>
                <a:latin typeface="Times New Roman"/>
              </a:rPr>
              <a:t>Pose Estimation Steps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95360" indent="-495360">
              <a:spcBef>
                <a:spcPts val="64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Image processing (edge detection, contour extraction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495360" indent="-495360">
              <a:spcBef>
                <a:spcPts val="64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Ellipse Fitting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495360" indent="-495360">
              <a:spcBef>
                <a:spcPts val="64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Establish correspondence between the two projected ellipses and the two model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495360" indent="-495360">
              <a:spcBef>
                <a:spcPts val="64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Infer 3D position and orientation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bcbcb"/>
                </a:solidFill>
                <a:latin typeface="Times New Roman"/>
              </a:rPr>
              <a:t>Original Image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1719360" y="1981080"/>
            <a:ext cx="57038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bcbcb"/>
                </a:solidFill>
                <a:latin typeface="Times New Roman"/>
              </a:rPr>
              <a:t>1- Edge Detection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719360" y="1981080"/>
            <a:ext cx="57038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bcbcb"/>
                </a:solidFill>
                <a:latin typeface="Times New Roman"/>
              </a:rPr>
              <a:t>1- Contour Extraction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1719360" y="1981080"/>
            <a:ext cx="57038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3T00:19:21Z</dcterms:created>
  <dc:creator>usabiaga</dc:creator>
  <dc:description/>
  <dc:language>en-US</dc:language>
  <cp:lastModifiedBy>usabiaga</cp:lastModifiedBy>
  <dcterms:modified xsi:type="dcterms:W3CDTF">2003-04-18T01:21:52Z</dcterms:modified>
  <cp:revision>29</cp:revision>
  <dc:subject/>
  <dc:title>Hand Pose Estimation</dc:title>
</cp:coreProperties>
</file>