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038353-65B6-404E-9EF7-46659B6DB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echnology will also permit astronauts to conduct experiments in a simulated, real-time, microgravity environment while still on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9A0-16D9-4D41-A68F-F5A091DE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2F1-A47B-419C-A9C0-B8A387F2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3FD-AD0A-4CF7-AD19-85B4A164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295-1DD9-452A-931E-136B3FD7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D007-051C-48B1-AE9A-3D97374E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6CC8-9350-4297-A97C-D55874AF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B3C2-A460-4450-B043-5C5521BE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E878-0879-4576-B8FC-EDE8BC17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CE3C-6D3F-4C53-8C70-3F437E95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4675-7D61-4B2D-9FDD-86CBF409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928B-C69F-4D3F-AD8D-48C3408A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320-01A1-4C06-8BCB-A0ECBF8D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6859-4DEC-4791-ABE0-AECF797E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0F1A-5BF9-4A44-9E9E-89691EC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AF3F-64D9-40D6-B021-61D7FAE9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82AB-ED81-4E3A-9B6C-DCA4F159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C875-2483-4D3E-BA8A-560AD2C4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9E1-05DA-43B8-A8F8-4D288287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E06-F45C-451B-B47A-C957CEA1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9CB-A348-4F02-9EB6-2700665C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B08-9A75-4FA3-A351-D49749F2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B8A-BBD8-4A7B-8DBD-E55CD3E6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7EB-987B-436F-BDA2-86256D5F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8DA-CBCE-4ED3-B99C-F127177D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nr.edu/content/default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nasa.gov/" TargetMode="External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46280" y="762120"/>
              <a:ext cx="839628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cap="sq" w="12600">
            <a:solidFill>
              <a:srgbClr val="330099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00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UNR - Computer Vision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3976-6F0F-40A1-92BC-6C4208B6E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762120"/>
            <a:ext cx="7477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6F8E-248F-42CF-934C-ADE6FB3DB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The University of Nevada, Ren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62120"/>
            <a:ext cx="1981440" cy="795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Animated NASA logo in which the orbit element circles the word NASA. On subsidiary pages, clicking on this graphic returns you to the NASA Home page, http://www.nasa.gov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762120"/>
            <a:ext cx="914400" cy="79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4253040" y="762120"/>
            <a:ext cx="776160" cy="790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507440" y="762120"/>
            <a:ext cx="950760" cy="788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r.edu/content/default.asp" TargetMode="External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hyperlink" Target="http://www.nasa.gov/" TargetMode="External"/><Relationship Id="rId6" Type="http://schemas.openxmlformats.org/officeDocument/2006/relationships/image" Target="../media/image3.gi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980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ellGothic"/>
              </a:rPr>
              <a:t>Computer Vision Technologies for Effective Human-Computer Interaction in Virtual Environmen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04760" y="38095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llGothic"/>
              </a:rPr>
              <a:t>George Bebis (P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ellGothic"/>
              </a:rPr>
              <a:t>Computer Vision Laborat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ellGothic"/>
              </a:rPr>
              <a:t>Department of Computer Sc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ellGothic"/>
              </a:rPr>
              <a:t>University of Nevada, R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Arial"/>
              </a:rPr>
              <a:t>bebis@cs.unr.ed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Arial"/>
              </a:rPr>
              <a:t>http://www.cs.unr.edu/~beb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019920" y="3657600"/>
            <a:ext cx="269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ollaborating Institu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versity of Nevada, Ren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(lead institu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. George Bebis (PI)          Dr. Fred Harr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. Ali Erol (postdoc)           Beifang Yi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ier Martinez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Jorge Usabiag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ott Fritzin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versity of Nevada, Las Veg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. Angelo Yfant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Dr. Peter Stubberu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ksana Kunushyn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Luis Teru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oVis Lab, NASA Ames Research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. Richard Boyle (BioVis Direct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ACS, NASA Ames Research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. Xander Twomb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The University of Nevada, Ren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1676520"/>
            <a:ext cx="1981080" cy="79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6705720" y="2514600"/>
          <a:ext cx="220968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2514600"/>
                    <a:ext cx="22096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Animated NASA logo in which the orbit element circles the word NASA. On subsidiary pages, clicking on this graphic returns you to the NASA Home page, http://www.nasa.gov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15200" y="3429000"/>
            <a:ext cx="1219320" cy="1063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7162920" y="5867280"/>
            <a:ext cx="1542960" cy="733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7315200" y="4724280"/>
            <a:ext cx="12952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Virtual GloveboX (VGX) Simulator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876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ioV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developing 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ersive virtual environment simulation system (Virtual GloveboX or VGX) to provide an advanced “fine-motor coordination” training and simulation system for astronauts to perform precise biological experiments in a Glovebox aboard the International Space St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Limitations of present VGX desig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ectiveness of the glovebox as a training tool depends on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sensed motion 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u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design utilizes research technologies that incorporate electro-mechanical sensing (i.e., cyberglov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nder the naturalness of user interaction with the simul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 not provide user access to the entire functional work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 not measure all the degrees of freedom of natural hand/digit mov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quire time consuming calibration proced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Main Project Objectiv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 the utility and effectiveness of VGX by developing and demonstrat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conta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omputer-vision-based interaction techniques f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352680" cy="2874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0720" y="388620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) real time tracking and registration of the human arm, hand, and fingers in 3D sp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Main Project Objective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(cont’d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3) real time eye tracking and eye-gaze estim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191120" cy="3155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90720" y="34290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2) real time head tracking and pose estim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ahoma"/>
              </a:rPr>
              <a:t>Hand P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ahoma"/>
              </a:rPr>
              <a:t>Estimation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ahoma"/>
              </a:rPr>
              <a:t>Tra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ahoma"/>
              </a:rPr>
              <a:t>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22600" y="6018120"/>
            <a:ext cx="1682640" cy="687600"/>
            <a:chOff x="3522600" y="6018120"/>
            <a:chExt cx="1682640" cy="687600"/>
          </a:xfrm>
        </p:grpSpPr>
        <p:sp>
          <p:nvSpPr>
            <p:cNvPr id="162" name=""/>
            <p:cNvSpPr/>
            <p:nvPr/>
          </p:nvSpPr>
          <p:spPr>
            <a:xfrm>
              <a:off x="3578040" y="6109560"/>
              <a:ext cx="1627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2600" y="6018120"/>
              <a:ext cx="1558080" cy="6386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057400" y="4192560"/>
            <a:ext cx="1272960" cy="746280"/>
            <a:chOff x="2057400" y="4192560"/>
            <a:chExt cx="1272960" cy="746280"/>
          </a:xfrm>
        </p:grpSpPr>
        <p:sp>
          <p:nvSpPr>
            <p:cNvPr id="165" name=""/>
            <p:cNvSpPr/>
            <p:nvPr/>
          </p:nvSpPr>
          <p:spPr>
            <a:xfrm>
              <a:off x="2099160" y="4291920"/>
              <a:ext cx="12312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3D Volumetric Hand Mod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57400" y="4192560"/>
              <a:ext cx="1179000" cy="693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128680" y="5092560"/>
            <a:ext cx="1176120" cy="687600"/>
            <a:chOff x="2128680" y="5092560"/>
            <a:chExt cx="1176120" cy="687600"/>
          </a:xfrm>
        </p:grpSpPr>
        <p:sp>
          <p:nvSpPr>
            <p:cNvPr id="168" name=""/>
            <p:cNvSpPr/>
            <p:nvPr/>
          </p:nvSpPr>
          <p:spPr>
            <a:xfrm>
              <a:off x="2167200" y="5184000"/>
              <a:ext cx="11376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Hand Model Constrai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28680" y="5092560"/>
              <a:ext cx="1089360" cy="638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662880" y="4915080"/>
            <a:ext cx="1609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icted Next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70680" y="2838600"/>
            <a:ext cx="1541520" cy="63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D Volumetric Reconstr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62280" y="1662120"/>
            <a:ext cx="3737160" cy="6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eature Ext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(Fingertips, Joints, Silhouettes, Ellips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37480" y="22986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2400480"/>
            <a:ext cx="11289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D Silhouet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8920" y="2308320"/>
            <a:ext cx="0" cy="170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0160" y="76320"/>
            <a:ext cx="4638600" cy="1047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9240" y="112392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40120" y="2455920"/>
            <a:ext cx="1281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Features and 3D lo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230832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24360" y="2368440"/>
            <a:ext cx="1126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D Ellip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7800" y="2838600"/>
            <a:ext cx="1541520" cy="63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lm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i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75160" y="4013280"/>
            <a:ext cx="3738600" cy="63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nd-Sate Esti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(Fit the 3D model to the reconstructed han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5400" y="348300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92840" y="3433680"/>
            <a:ext cx="1265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construc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70440" y="348300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3505320"/>
            <a:ext cx="1600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lm Orientation &amp; 3D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51160" y="436104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30388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386160" y="4538520"/>
            <a:ext cx="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6160" y="45385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70440" y="4659480"/>
            <a:ext cx="0" cy="135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57800" y="5076720"/>
            <a:ext cx="20826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ac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(Kalman Filt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4748040"/>
            <a:ext cx="1773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 Hand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40400" y="5237280"/>
            <a:ext cx="182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265960" y="1979280"/>
            <a:ext cx="0" cy="325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319880" y="4497480"/>
            <a:ext cx="94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534816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95720" y="5810400"/>
            <a:ext cx="1006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18000" y="6140520"/>
            <a:ext cx="139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d Position +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int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384680" y="1979640"/>
            <a:ext cx="88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6019920"/>
            <a:ext cx="1371600" cy="60948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714280" y="6172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sual Feed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632448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76720" y="228600"/>
            <a:ext cx="4448160" cy="674640"/>
            <a:chOff x="3276720" y="228600"/>
            <a:chExt cx="4448160" cy="6746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3276720" y="228600"/>
              <a:ext cx="106524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408560" y="228600"/>
              <a:ext cx="104616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5523120" y="228600"/>
              <a:ext cx="10634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6654960" y="228600"/>
              <a:ext cx="106992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22:23:53Z</dcterms:created>
  <dc:creator>George Bebis</dc:creator>
  <dc:description/>
  <dc:language>en-US</dc:language>
  <cp:lastModifiedBy>bebis</cp:lastModifiedBy>
  <cp:lastPrinted>2001-04-05T21:11:44Z</cp:lastPrinted>
  <dcterms:modified xsi:type="dcterms:W3CDTF">2003-04-18T03:24:03Z</dcterms:modified>
  <cp:revision>7</cp:revision>
  <dc:subject/>
  <dc:title> Computer Vision Technologies for Effective Human-Computer Interaction in Virtual Environments</dc:title>
</cp:coreProperties>
</file>