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C39-3181-46FB-AF02-DB7FF0CB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D9D-4FA2-456D-BCB7-8348A246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AB5-0640-4E58-956B-377BACDC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119-5B58-4A7A-AACA-5681FD67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6E14-9283-4878-84EF-1FE7B0A6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ED0A-31C8-4128-BA50-583CF70C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8233-0A1C-4689-B614-F4D89733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8758-1D7D-4DE7-B626-1BFF67B9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E438-4A63-4513-8C59-DA5C088A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4358-910A-4BA9-A310-AD042CD5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BC29-4406-4073-B5C9-07FF7A3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FEB-EF53-4971-847C-97440F7F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6F6D-C6DC-4DC7-9EAE-973280D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5C06-EAF3-4401-9CD2-7850087B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9821-D8FE-4EA2-AC21-C6E787F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D7CE-615E-4933-98A6-1DE7EF01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9051-B068-43BA-BF09-F59E2398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71E-EA8F-4B18-B6AF-AA32D6AD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7FE-ECD7-4026-A127-D4521D50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CA5-771D-4D68-906A-1B5E9BB4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E6F-FECE-465F-ADD4-74DE910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97B-C40C-4D6A-B2B6-779F444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311-FD6C-4E7A-9C6A-6CF6CE4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DFE-B892-48B5-BE3A-5852BCE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nr.edu/content/default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asa.gov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46280" y="762120"/>
              <a:ext cx="839628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cap="sq" w="12600">
            <a:solidFill>
              <a:srgbClr val="330099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UNR - Computer Vision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E61A-497F-418A-A499-0EE2DEAEE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762120"/>
            <a:ext cx="7477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FF30-C35A-4311-8DC2-287EF37A6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The University of Nevada, Ren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62120"/>
            <a:ext cx="1981440" cy="79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Animated NASA logo in which the orbit element circles the word NASA. On subsidiary pages, clicking on this graphic returns you to the NASA Home page, http://www.nasa.gov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762120"/>
            <a:ext cx="914400" cy="79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4253040" y="762120"/>
            <a:ext cx="776160" cy="790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07440" y="762120"/>
            <a:ext cx="950760" cy="788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png"/><Relationship Id="rId4" Type="http://schemas.openxmlformats.org/officeDocument/2006/relationships/image" Target="../media/image32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3D HAND RECONSTRU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4600" y="3352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i Ero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sual Hu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5840" y="3954600"/>
            <a:ext cx="7877160" cy="16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aster compu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rface area determines the execution ti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al-time multi-computer systems avail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045040" y="2084400"/>
            <a:ext cx="1312920" cy="1309680"/>
            <a:chOff x="5045040" y="2084400"/>
            <a:chExt cx="1312920" cy="1309680"/>
          </a:xfrm>
        </p:grpSpPr>
        <p:sp>
          <p:nvSpPr>
            <p:cNvPr id="271" name=""/>
            <p:cNvSpPr/>
            <p:nvPr/>
          </p:nvSpPr>
          <p:spPr>
            <a:xfrm>
              <a:off x="5699160" y="2570400"/>
              <a:ext cx="658800" cy="660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45040" y="2737080"/>
              <a:ext cx="658800" cy="657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40400" y="2733840"/>
              <a:ext cx="657360" cy="657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05600" y="2084400"/>
              <a:ext cx="6570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99160" y="2084400"/>
              <a:ext cx="6588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5040" y="2241720"/>
              <a:ext cx="6588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40400" y="2241720"/>
              <a:ext cx="65736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14640" y="2084400"/>
            <a:ext cx="1317600" cy="13190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biguous Vox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18000" y="2496960"/>
            <a:ext cx="1293840" cy="495360"/>
          </a:xfrm>
          <a:prstGeom prst="rightArrow">
            <a:avLst>
              <a:gd name="adj1" fmla="val 50000"/>
              <a:gd name="adj2" fmla="val 65298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45080" y="257976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r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sual Hu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771200"/>
            <a:ext cx="2944800" cy="40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ynthetic data acquired using the visualization modu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75120" y="1738440"/>
            <a:ext cx="55069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sual Hu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30840" y="4654440"/>
            <a:ext cx="2075040" cy="14526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730840" y="3151080"/>
            <a:ext cx="2075040" cy="1452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730840" y="1649520"/>
            <a:ext cx="2075040" cy="1452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3597120" y="4654440"/>
            <a:ext cx="2075040" cy="1452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597120" y="3151080"/>
            <a:ext cx="2075040" cy="14526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1465200" y="4654440"/>
            <a:ext cx="2075040" cy="1452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3602160" y="1649520"/>
            <a:ext cx="2074680" cy="1452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1465200" y="3152880"/>
            <a:ext cx="2075040" cy="1452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65200" y="1649520"/>
            <a:ext cx="2084400" cy="1454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8 Camer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sual Hu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71680" y="1589040"/>
            <a:ext cx="3206520" cy="2247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711680" y="1589040"/>
            <a:ext cx="3208320" cy="22496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471680" y="3865680"/>
            <a:ext cx="3208320" cy="2249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4711680" y="3865680"/>
            <a:ext cx="32083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sual Hu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083040" y="1581120"/>
            <a:ext cx="6060960" cy="4362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3360" y="1660680"/>
            <a:ext cx="3051360" cy="2138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63360" y="3906720"/>
            <a:ext cx="3052800" cy="2140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289480" y="2951280"/>
            <a:ext cx="222480" cy="182520"/>
          </a:xfrm>
          <a:prstGeom prst="ellipse">
            <a:avLst/>
          </a:prstGeom>
          <a:noFill/>
          <a:ln cap="sq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4160" y="3056040"/>
            <a:ext cx="3879720" cy="39600"/>
          </a:xfrm>
          <a:prstGeom prst="line">
            <a:avLst/>
          </a:prstGeom>
          <a:ln cap="sq" w="255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612800" y="3063960"/>
            <a:ext cx="3803760" cy="2484360"/>
          </a:xfrm>
          <a:prstGeom prst="line">
            <a:avLst/>
          </a:prstGeom>
          <a:ln cap="sq" w="255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9643400">
            <a:off x="3012480" y="402660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ject on ring fin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4164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ject on middle fin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pace Carv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27120" y="1631880"/>
            <a:ext cx="2938320" cy="20574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338560" y="2305080"/>
            <a:ext cx="2690640" cy="166680"/>
          </a:xfrm>
          <a:prstGeom prst="rightArrow">
            <a:avLst>
              <a:gd name="adj1" fmla="val 50000"/>
              <a:gd name="adj2" fmla="val 403564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865760" y="4005360"/>
          <a:ext cx="1025280" cy="1004760"/>
        </p:xfrm>
        <a:graphic>
          <a:graphicData uri="http://schemas.openxmlformats.org/drawingml/2006/table">
            <a:tbl>
              <a:tblPr/>
              <a:tblGrid>
                <a:gridCol w="358200"/>
                <a:gridCol w="324000"/>
                <a:gridCol w="343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970680" y="3983040"/>
          <a:ext cx="1025280" cy="1004760"/>
        </p:xfrm>
        <a:graphic>
          <a:graphicData uri="http://schemas.openxmlformats.org/drawingml/2006/table">
            <a:tbl>
              <a:tblPr/>
              <a:tblGrid>
                <a:gridCol w="358560"/>
                <a:gridCol w="324000"/>
                <a:gridCol w="34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4809600" y="500076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jection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51240" y="500076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jection 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037280" y="49608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27840" y="3956040"/>
            <a:ext cx="81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6135120" y="4948920"/>
            <a:ext cx="78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35600" y="4334040"/>
            <a:ext cx="262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13080" y="5721480"/>
            <a:ext cx="285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the vox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32680" y="3436920"/>
            <a:ext cx="401400" cy="708120"/>
          </a:xfrm>
          <a:prstGeom prst="downArrow">
            <a:avLst>
              <a:gd name="adj1" fmla="val 50000"/>
              <a:gd name="adj2" fmla="val 44103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28760" y="4187520"/>
            <a:ext cx="37605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ter deletion the visibility of other voxels chan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peat the procedure until no voxel can be delete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9040" y="4205160"/>
            <a:ext cx="620640" cy="689040"/>
          </a:xfrm>
          <a:custGeom>
            <a:avLst/>
            <a:gdLst/>
            <a:ahLst/>
            <a:rect l="l" t="t" r="r" b="b"/>
            <a:pathLst>
              <a:path w="237" h="263">
                <a:moveTo>
                  <a:pt x="0" y="84"/>
                </a:moveTo>
                <a:lnTo>
                  <a:pt x="0" y="263"/>
                </a:lnTo>
                <a:lnTo>
                  <a:pt x="173" y="263"/>
                </a:lnTo>
                <a:lnTo>
                  <a:pt x="237" y="167"/>
                </a:lnTo>
                <a:lnTo>
                  <a:pt x="237" y="0"/>
                </a:lnTo>
                <a:lnTo>
                  <a:pt x="64" y="0"/>
                </a:lnTo>
                <a:lnTo>
                  <a:pt x="0" y="84"/>
                </a:lnTo>
                <a:close/>
              </a:path>
            </a:pathLst>
          </a:custGeom>
          <a:gradFill rotWithShape="0">
            <a:gsLst>
              <a:gs pos="0">
                <a:srgbClr val="cbcbcb">
                  <a:alpha val="40000"/>
                </a:srgbClr>
              </a:gs>
              <a:gs pos="100000">
                <a:srgbClr val="5d5d5d">
                  <a:alpha val="40000"/>
                </a:srgbClr>
              </a:gs>
            </a:gsLst>
            <a:lin ang="5400000"/>
          </a:gradFill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83440" y="4079880"/>
            <a:ext cx="528480" cy="831960"/>
          </a:xfrm>
          <a:custGeom>
            <a:avLst/>
            <a:gdLst/>
            <a:ahLst/>
            <a:rect l="l" t="t" r="r" b="b"/>
            <a:pathLst>
              <a:path w="237" h="263">
                <a:moveTo>
                  <a:pt x="0" y="84"/>
                </a:moveTo>
                <a:lnTo>
                  <a:pt x="0" y="263"/>
                </a:lnTo>
                <a:lnTo>
                  <a:pt x="173" y="263"/>
                </a:lnTo>
                <a:lnTo>
                  <a:pt x="237" y="167"/>
                </a:lnTo>
                <a:lnTo>
                  <a:pt x="237" y="0"/>
                </a:lnTo>
                <a:lnTo>
                  <a:pt x="64" y="0"/>
                </a:lnTo>
                <a:lnTo>
                  <a:pt x="0" y="84"/>
                </a:lnTo>
                <a:close/>
              </a:path>
            </a:pathLst>
          </a:custGeom>
          <a:gradFill rotWithShape="0">
            <a:gsLst>
              <a:gs pos="0">
                <a:srgbClr val="cbcbcb">
                  <a:alpha val="40000"/>
                </a:srgbClr>
              </a:gs>
              <a:gs pos="100000">
                <a:srgbClr val="5d5d5d">
                  <a:alpha val="40000"/>
                </a:srgbClr>
              </a:gs>
            </a:gsLst>
            <a:lin ang="5400000"/>
          </a:gradFill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125240" y="1515960"/>
            <a:ext cx="5019480" cy="2061720"/>
            <a:chOff x="4125240" y="1515960"/>
            <a:chExt cx="5019480" cy="2061720"/>
          </a:xfrm>
        </p:grpSpPr>
        <p:sp>
          <p:nvSpPr>
            <p:cNvPr id="325" name=""/>
            <p:cNvSpPr/>
            <p:nvPr/>
          </p:nvSpPr>
          <p:spPr>
            <a:xfrm>
              <a:off x="6156360" y="2598480"/>
              <a:ext cx="623520" cy="6415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46520" y="2742840"/>
              <a:ext cx="623520" cy="6415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14880" y="2739960"/>
              <a:ext cx="623520" cy="6411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46520" y="2263680"/>
              <a:ext cx="623520" cy="6411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53120" y="2118960"/>
              <a:ext cx="623520" cy="6429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08760" y="2269800"/>
              <a:ext cx="623520" cy="6429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d5d5d"/>
                </a:gs>
                <a:gs pos="100000">
                  <a:srgbClr val="cbcbcb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3541800">
              <a:off x="6818400" y="1826640"/>
              <a:ext cx="646200" cy="358200"/>
            </a:xfrm>
            <a:prstGeom prst="parallelogram">
              <a:avLst>
                <a:gd name="adj" fmla="val 57286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9347400">
              <a:off x="5003280" y="1910880"/>
              <a:ext cx="645840" cy="358560"/>
            </a:xfrm>
            <a:prstGeom prst="parallelogram">
              <a:avLst>
                <a:gd name="adj" fmla="val 5503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2080" y="2430360"/>
              <a:ext cx="1290240" cy="657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1800" y="2908080"/>
              <a:ext cx="1240920" cy="217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38760" y="2273040"/>
              <a:ext cx="1137960" cy="798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5520" y="2757240"/>
              <a:ext cx="1096920" cy="347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222520" y="2427120"/>
              <a:ext cx="1255320" cy="824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205240" y="2428560"/>
              <a:ext cx="809280" cy="78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219280" y="2909520"/>
              <a:ext cx="1253880" cy="389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90840" y="2906640"/>
              <a:ext cx="823320" cy="382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161200">
              <a:off x="4717080" y="3058200"/>
              <a:ext cx="645840" cy="358560"/>
            </a:xfrm>
            <a:prstGeom prst="parallelogram">
              <a:avLst>
                <a:gd name="adj" fmla="val 57196"/>
              </a:avLst>
            </a:prstGeom>
            <a:solidFill>
              <a:srgbClr val="cbcbcb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8539200">
              <a:off x="7513200" y="3058560"/>
              <a:ext cx="645840" cy="358920"/>
            </a:xfrm>
            <a:prstGeom prst="parallelogram">
              <a:avLst>
                <a:gd name="adj" fmla="val 57139"/>
              </a:avLst>
            </a:prstGeom>
            <a:solidFill>
              <a:srgbClr val="cbcbcb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248200">
              <a:off x="5183280" y="2069640"/>
              <a:ext cx="290160" cy="120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321200">
              <a:off x="7005240" y="1953720"/>
              <a:ext cx="290160" cy="120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25240" y="1515960"/>
              <a:ext cx="50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alculate the projections on the views in which the voxel is visibl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pace Carv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446120" y="1604880"/>
            <a:ext cx="6383520" cy="4478400"/>
            <a:chOff x="1446120" y="1604880"/>
            <a:chExt cx="6383520" cy="4478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1447560" y="3121200"/>
              <a:ext cx="208620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1447560" y="4626000"/>
              <a:ext cx="208620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3589200" y="1604880"/>
              <a:ext cx="208620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3589200" y="3121200"/>
              <a:ext cx="208620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3589200" y="4626000"/>
              <a:ext cx="208620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743440" y="1604880"/>
              <a:ext cx="208620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7"/>
            <a:stretch/>
          </p:blipFill>
          <p:spPr>
            <a:xfrm>
              <a:off x="5743440" y="3121200"/>
              <a:ext cx="208620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8"/>
            <a:stretch/>
          </p:blipFill>
          <p:spPr>
            <a:xfrm>
              <a:off x="5743440" y="4626000"/>
              <a:ext cx="2086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446120" y="1604880"/>
              <a:ext cx="2084400" cy="145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Inpu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(8 camera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pace Carv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685800" y="1306440"/>
            <a:ext cx="7396200" cy="5176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24120" y="2095200"/>
            <a:ext cx="4467240" cy="29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ed color for robust segmen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lored glove helps 3D finger localiz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nhance the hand state estimation pro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62040" y="1589040"/>
            <a:ext cx="3770280" cy="26542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pace Carv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41760" y="1589040"/>
            <a:ext cx="3768480" cy="2650680"/>
            <a:chOff x="4541760" y="1589040"/>
            <a:chExt cx="3768480" cy="265068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4541760" y="1589040"/>
              <a:ext cx="3768480" cy="265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482520" y="2848320"/>
              <a:ext cx="290880" cy="28404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23360" y="4361040"/>
            <a:ext cx="4100760" cy="17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desired behavior at the bounda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nger-palm bounda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ccluding fin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stimation algorithm can handle 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63720" y="2825640"/>
            <a:ext cx="290520" cy="284400"/>
          </a:xfrm>
          <a:prstGeom prst="ellipse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19440" y="2035080"/>
            <a:ext cx="290520" cy="284400"/>
          </a:xfrm>
          <a:prstGeom prst="ellipse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41760" y="4361040"/>
            <a:ext cx="410076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gmentation and camera calibration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uracy of visibility and projection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3D Reconstru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5588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computationally intensive pro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isibility Detectio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e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re exists optimized algorithms for a full reconstructio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ur Purpose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ptimize for image sequenc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mental volume constr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ystem Desig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092400"/>
            <a:ext cx="22860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egment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35240" y="3898800"/>
            <a:ext cx="2550960" cy="3654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36720" bIns="403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3D Reconstruc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27360" y="2614680"/>
            <a:ext cx="144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1240" y="2625840"/>
            <a:ext cx="324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3040" y="2646360"/>
            <a:ext cx="144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62480" y="2684520"/>
            <a:ext cx="768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73280" y="3460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9760" y="4265640"/>
            <a:ext cx="1800" cy="41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1320" y="3511440"/>
            <a:ext cx="1616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lhouet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6400" y="2738520"/>
            <a:ext cx="91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74840" y="4670280"/>
            <a:ext cx="33800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36720" bIns="403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and State Estim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83360" y="3468600"/>
            <a:ext cx="0" cy="4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956960" y="3259080"/>
            <a:ext cx="405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38240" y="3259080"/>
            <a:ext cx="0" cy="8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46160" y="406224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28880" y="3533760"/>
            <a:ext cx="1441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nger Reg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3092400"/>
            <a:ext cx="22860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llipse Detec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3880" y="3463920"/>
            <a:ext cx="1616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llip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4680" y="3887640"/>
            <a:ext cx="2525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Palm State Estim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49520" y="4297320"/>
            <a:ext cx="1820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D Volume Im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1800" y="4200480"/>
            <a:ext cx="2246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ientation and Position of Palm (6 DO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05680" y="4254480"/>
            <a:ext cx="1440" cy="41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65960" y="3868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8080" y="1841400"/>
            <a:ext cx="4627440" cy="784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65200" y="1886040"/>
            <a:ext cx="106524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97400" y="1886040"/>
            <a:ext cx="1046160" cy="672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11600" y="1886040"/>
            <a:ext cx="1063800" cy="674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743440" y="1886040"/>
            <a:ext cx="1070280" cy="674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176880" y="2635200"/>
            <a:ext cx="180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6880" y="2678040"/>
            <a:ext cx="1898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lected View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86200" y="5580000"/>
            <a:ext cx="2057040" cy="592200"/>
            <a:chOff x="3886200" y="5580000"/>
            <a:chExt cx="2057040" cy="592200"/>
          </a:xfrm>
        </p:grpSpPr>
        <p:sp>
          <p:nvSpPr>
            <p:cNvPr id="162" name=""/>
            <p:cNvSpPr/>
            <p:nvPr/>
          </p:nvSpPr>
          <p:spPr>
            <a:xfrm>
              <a:off x="3953880" y="5658840"/>
              <a:ext cx="198936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56160" tIns="28080" bIns="28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580000"/>
              <a:ext cx="1905120" cy="550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754440" y="5619600"/>
            <a:ext cx="22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5616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 Position 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int Ang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97360" y="5189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92480" y="1523880"/>
            <a:ext cx="4644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nchronized images from different vie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4683240"/>
            <a:ext cx="1112400" cy="617400"/>
            <a:chOff x="1828800" y="4683240"/>
            <a:chExt cx="1112400" cy="617400"/>
          </a:xfrm>
        </p:grpSpPr>
        <p:sp>
          <p:nvSpPr>
            <p:cNvPr id="168" name=""/>
            <p:cNvSpPr/>
            <p:nvPr/>
          </p:nvSpPr>
          <p:spPr>
            <a:xfrm>
              <a:off x="1865160" y="4765320"/>
              <a:ext cx="10760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5616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Volumetr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Hand Mod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4683240"/>
              <a:ext cx="1030680" cy="573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90720" y="5427720"/>
            <a:ext cx="1109520" cy="569520"/>
            <a:chOff x="1890720" y="5427720"/>
            <a:chExt cx="1109520" cy="569520"/>
          </a:xfrm>
        </p:grpSpPr>
        <p:sp>
          <p:nvSpPr>
            <p:cNvPr id="171" name=""/>
            <p:cNvSpPr/>
            <p:nvPr/>
          </p:nvSpPr>
          <p:spPr>
            <a:xfrm>
              <a:off x="1927080" y="5503320"/>
              <a:ext cx="107316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5616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Hand Model Constrai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90720" y="5427720"/>
              <a:ext cx="1027440" cy="529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871720" y="4821120"/>
            <a:ext cx="28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990880" y="4967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90880" y="4967280"/>
            <a:ext cx="16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560232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586728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638680"/>
            <a:ext cx="18288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36720" bIns="403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Visualiz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Image Sequen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15800" y="190656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887640" y="19065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7640" y="3193560"/>
            <a:ext cx="77724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ystem Desig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cking Inf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be utilized in any mod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 processing sp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 robustness: Temporal co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ther Featu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ger tip mar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int mar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Hand State Estim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op-down Approa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form the model till its projection resembles the hand on the im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mization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mization algorithm (Jacobian calcul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ormation through physical forces (no derivativ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 Search in paramete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ttom-up Approa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t the model to the reconstructed hand (3D Volum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ormation through physical fo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ize volume overlap (Human Body Po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Bottom-up approa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dvantages over top-down approa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ural multiple-view combination through the use of 3D reconstruction algorithms (Top down approaches mostly try to minimize the sum of the err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meter estimation process is  free from the complexity of perspective projection (Orthographic projection is used in some top-down stud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advant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work with single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 reconstruction is computationally expen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e expect higher accuracy in bottom-up approa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3D Reconstru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676600" y="3960720"/>
            <a:ext cx="2843280" cy="1986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15920" y="1144440"/>
            <a:ext cx="2836800" cy="1981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00240" y="2570040"/>
            <a:ext cx="2049480" cy="3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367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Visual Hull Con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7040" y="2298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2240" y="2932200"/>
            <a:ext cx="32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35400" y="2052720"/>
            <a:ext cx="1203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ilhouet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81320" y="3017880"/>
            <a:ext cx="1041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isual H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30480" y="3438360"/>
            <a:ext cx="204804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367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pace Carv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81320" y="380376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72040" y="3875040"/>
            <a:ext cx="1420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constructed H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23960" y="35654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4720" y="3521160"/>
            <a:ext cx="930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ng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64040" y="229860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30440" y="312588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329000" y="1976400"/>
            <a:ext cx="2830680" cy="1981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37240" y="2867040"/>
            <a:ext cx="228600" cy="23976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83160" y="1974960"/>
            <a:ext cx="1651320" cy="609480"/>
          </a:xfrm>
          <a:prstGeom prst="borderCallout1">
            <a:avLst>
              <a:gd name="adj1" fmla="val 18750"/>
              <a:gd name="adj2" fmla="val -8333"/>
              <a:gd name="adj3" fmla="val 139583"/>
              <a:gd name="adj4" fmla="val -360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70800" y="2109960"/>
            <a:ext cx="1600200" cy="328320"/>
          </a:xfrm>
          <a:prstGeom prst="borderCallout1">
            <a:avLst>
              <a:gd name="adj1" fmla="val 18750"/>
              <a:gd name="adj2" fmla="val -8333"/>
              <a:gd name="adj3" fmla="val 268597"/>
              <a:gd name="adj4" fmla="val -55458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antom Feat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sual Hu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7200" y="1749600"/>
            <a:ext cx="5096160" cy="4279680"/>
            <a:chOff x="187200" y="1749600"/>
            <a:chExt cx="5096160" cy="4279680"/>
          </a:xfrm>
        </p:grpSpPr>
        <p:graphicFrame>
          <p:nvGraphicFramePr>
            <p:cNvPr id="206" name=""/>
            <p:cNvGraphicFramePr/>
            <p:nvPr/>
          </p:nvGraphicFramePr>
          <p:xfrm>
            <a:off x="187200" y="1749600"/>
            <a:ext cx="2468520" cy="207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7200" y="1749600"/>
                      <a:ext cx="2468520" cy="20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2814480" y="1749600"/>
              <a:ext cx="2468880" cy="20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187200" y="3951360"/>
              <a:ext cx="2468520" cy="20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5"/>
            <a:stretch/>
          </p:blipFill>
          <p:spPr>
            <a:xfrm>
              <a:off x="2814480" y="3951360"/>
              <a:ext cx="2468880" cy="20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54640" y="1674360"/>
            <a:ext cx="378936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hape from silhouet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rgest volume giving same silhouet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ncloses the real 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number and location of cameras and the object geometry determines accura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blem with conca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5120" y="3278160"/>
            <a:ext cx="4478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70000" y="3328920"/>
            <a:ext cx="4478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0200" y="2060640"/>
            <a:ext cx="447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16200" y="2278080"/>
            <a:ext cx="447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06800" y="3430440"/>
            <a:ext cx="447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7120" y="5665680"/>
            <a:ext cx="447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12920" y="5319720"/>
            <a:ext cx="4478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sual Hu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80880" y="4003200"/>
            <a:ext cx="795600" cy="793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171440" y="4011480"/>
            <a:ext cx="2376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74680" y="1638360"/>
            <a:ext cx="0" cy="2365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103320" y="1749600"/>
          <a:ext cx="335304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320" y="1749600"/>
                    <a:ext cx="3353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2023920" y="3830760"/>
            <a:ext cx="981000" cy="983880"/>
            <a:chOff x="2023920" y="3830760"/>
            <a:chExt cx="981000" cy="983880"/>
          </a:xfrm>
        </p:grpSpPr>
        <p:sp>
          <p:nvSpPr>
            <p:cNvPr id="226" name=""/>
            <p:cNvSpPr/>
            <p:nvPr/>
          </p:nvSpPr>
          <p:spPr>
            <a:xfrm>
              <a:off x="2512800" y="4195800"/>
              <a:ext cx="492120" cy="496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23920" y="4321080"/>
              <a:ext cx="49212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94000" y="4318560"/>
              <a:ext cx="491040" cy="49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43800" y="3830760"/>
              <a:ext cx="491040" cy="495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2800" y="3830760"/>
              <a:ext cx="492120" cy="495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23920" y="3948840"/>
              <a:ext cx="492120" cy="495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94000" y="3948840"/>
              <a:ext cx="491040" cy="495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84120" y="1638360"/>
            <a:ext cx="3168720" cy="316872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28960" y="4000680"/>
            <a:ext cx="2131920" cy="230040"/>
          </a:xfrm>
          <a:prstGeom prst="rightArrow">
            <a:avLst>
              <a:gd name="adj1" fmla="val 50000"/>
              <a:gd name="adj2" fmla="val 23169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8040" y="3684600"/>
            <a:ext cx="852480" cy="8780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3541800">
            <a:off x="7026120" y="3078000"/>
            <a:ext cx="882360" cy="488880"/>
          </a:xfrm>
          <a:prstGeom prst="parallelogram">
            <a:avLst>
              <a:gd name="adj" fmla="val 57313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9347400">
            <a:off x="4544640" y="3193200"/>
            <a:ext cx="882720" cy="490680"/>
          </a:xfrm>
          <a:prstGeom prst="parallelogram">
            <a:avLst>
              <a:gd name="adj" fmla="val 54969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770520" y="3301560"/>
            <a:ext cx="68760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81680" y="3395160"/>
            <a:ext cx="668520" cy="941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84920" y="3373560"/>
            <a:ext cx="639720" cy="419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153120" y="3288960"/>
            <a:ext cx="1224000" cy="392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1640" y="3903840"/>
            <a:ext cx="1763640" cy="896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66040" y="4556160"/>
            <a:ext cx="1695240" cy="298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80240" y="3687840"/>
            <a:ext cx="1555560" cy="1092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75560" y="4349880"/>
            <a:ext cx="1500120" cy="476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070240" y="3396960"/>
            <a:ext cx="1060200" cy="284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005440" y="3409560"/>
            <a:ext cx="915840" cy="49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976640" y="3446640"/>
            <a:ext cx="951120" cy="1109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843080" y="3898800"/>
            <a:ext cx="1717560" cy="112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819680" y="3902040"/>
            <a:ext cx="1108080" cy="106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839840" y="4559400"/>
            <a:ext cx="1714680" cy="530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800240" y="4554360"/>
            <a:ext cx="1127160" cy="52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161200">
            <a:off x="4153320" y="4761720"/>
            <a:ext cx="882720" cy="490320"/>
          </a:xfrm>
          <a:prstGeom prst="parallelogram">
            <a:avLst>
              <a:gd name="adj" fmla="val 57168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8539200">
            <a:off x="7975440" y="4762080"/>
            <a:ext cx="882720" cy="490680"/>
          </a:xfrm>
          <a:prstGeom prst="parallelogram">
            <a:avLst>
              <a:gd name="adj" fmla="val 57126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064120" y="3477960"/>
            <a:ext cx="852480" cy="56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20248200">
            <a:off x="4791240" y="3411360"/>
            <a:ext cx="395280" cy="163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321200">
            <a:off x="7281360" y="3252960"/>
            <a:ext cx="39528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23160" y="244800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culate the projection on each 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isual Hu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71680" y="2063880"/>
          <a:ext cx="529740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063880"/>
                    <a:ext cx="529740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292560" y="2579760"/>
            <a:ext cx="376200" cy="417600"/>
          </a:xfrm>
          <a:custGeom>
            <a:avLst/>
            <a:gdLst/>
            <a:ahLst/>
            <a:rect l="l" t="t" r="r" b="b"/>
            <a:pathLst>
              <a:path w="237" h="263">
                <a:moveTo>
                  <a:pt x="0" y="84"/>
                </a:moveTo>
                <a:lnTo>
                  <a:pt x="0" y="263"/>
                </a:lnTo>
                <a:lnTo>
                  <a:pt x="173" y="263"/>
                </a:lnTo>
                <a:lnTo>
                  <a:pt x="237" y="167"/>
                </a:lnTo>
                <a:lnTo>
                  <a:pt x="237" y="0"/>
                </a:lnTo>
                <a:lnTo>
                  <a:pt x="64" y="0"/>
                </a:lnTo>
                <a:lnTo>
                  <a:pt x="0" y="84"/>
                </a:lnTo>
                <a:close/>
              </a:path>
            </a:pathLst>
          </a:custGeom>
          <a:noFill/>
          <a:ln cap="sq" w="1908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86120" y="3260880"/>
            <a:ext cx="376200" cy="417240"/>
          </a:xfrm>
          <a:custGeom>
            <a:avLst/>
            <a:gdLst/>
            <a:ahLst/>
            <a:rect l="l" t="t" r="r" b="b"/>
            <a:pathLst>
              <a:path w="237" h="263">
                <a:moveTo>
                  <a:pt x="0" y="84"/>
                </a:moveTo>
                <a:lnTo>
                  <a:pt x="0" y="263"/>
                </a:lnTo>
                <a:lnTo>
                  <a:pt x="173" y="263"/>
                </a:lnTo>
                <a:lnTo>
                  <a:pt x="237" y="167"/>
                </a:lnTo>
                <a:lnTo>
                  <a:pt x="237" y="0"/>
                </a:lnTo>
                <a:lnTo>
                  <a:pt x="64" y="0"/>
                </a:lnTo>
                <a:lnTo>
                  <a:pt x="0" y="84"/>
                </a:lnTo>
                <a:close/>
              </a:path>
            </a:pathLst>
          </a:custGeom>
          <a:noFill/>
          <a:ln cap="sq" w="1908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24200" y="4745160"/>
            <a:ext cx="376200" cy="417240"/>
          </a:xfrm>
          <a:custGeom>
            <a:avLst/>
            <a:gdLst/>
            <a:ahLst/>
            <a:rect l="l" t="t" r="r" b="b"/>
            <a:pathLst>
              <a:path w="237" h="263">
                <a:moveTo>
                  <a:pt x="0" y="84"/>
                </a:moveTo>
                <a:lnTo>
                  <a:pt x="0" y="263"/>
                </a:lnTo>
                <a:lnTo>
                  <a:pt x="173" y="263"/>
                </a:lnTo>
                <a:lnTo>
                  <a:pt x="237" y="167"/>
                </a:lnTo>
                <a:lnTo>
                  <a:pt x="237" y="0"/>
                </a:lnTo>
                <a:lnTo>
                  <a:pt x="64" y="0"/>
                </a:lnTo>
                <a:lnTo>
                  <a:pt x="0" y="84"/>
                </a:lnTo>
                <a:close/>
              </a:path>
            </a:pathLst>
          </a:custGeom>
          <a:noFill/>
          <a:ln cap="sq" w="1908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53200" y="1704960"/>
            <a:ext cx="2589120" cy="1076400"/>
          </a:xfrm>
          <a:prstGeom prst="borderCallout1">
            <a:avLst>
              <a:gd name="adj1" fmla="val 18750"/>
              <a:gd name="adj2" fmla="val -8333"/>
              <a:gd name="adj3" fmla="val 102064"/>
              <a:gd name="adj4" fmla="val -106500"/>
            </a:avLst>
          </a:prstGeom>
          <a:noFill/>
          <a:ln cap="sq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N-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y on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of the projection is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letely outsid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silhouet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53200" y="2951280"/>
            <a:ext cx="2589120" cy="985680"/>
          </a:xfrm>
          <a:prstGeom prst="borderCallout1">
            <a:avLst>
              <a:gd name="adj1" fmla="val 18750"/>
              <a:gd name="adj2" fmla="val -8333"/>
              <a:gd name="adj3" fmla="val 52976"/>
              <a:gd name="adj4" fmla="val -122194"/>
            </a:avLst>
          </a:prstGeom>
          <a:noFill/>
          <a:ln cap="sq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f the projections are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letely insid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silhouet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53200" y="4108320"/>
            <a:ext cx="2589120" cy="986040"/>
          </a:xfrm>
          <a:prstGeom prst="borderCallout1">
            <a:avLst>
              <a:gd name="adj1" fmla="val 18750"/>
              <a:gd name="adj2" fmla="val -8333"/>
              <a:gd name="adj3" fmla="val 88888"/>
              <a:gd name="adj4" fmla="val -93134"/>
            </a:avLst>
          </a:prstGeom>
          <a:noFill/>
          <a:ln cap="sq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MBIGUO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me of the projections include edges of the silhouet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21:18:12Z</dcterms:created>
  <dc:creator>Ali Erol</dc:creator>
  <dc:description/>
  <dc:language>en-US</dc:language>
  <cp:lastModifiedBy>bebis</cp:lastModifiedBy>
  <dcterms:modified xsi:type="dcterms:W3CDTF">2003-04-18T02:56:04Z</dcterms:modified>
  <cp:revision>25</cp:revision>
  <dc:subject/>
  <dc:title>HAND POSE ESTIMATION AND TRACKING</dc:title>
</cp:coreProperties>
</file>