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F16-345F-4CAD-B39F-6F97F1C8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8226-4ACA-4D72-9A6F-97A8389C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A24-02E7-45A7-8208-915D005F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33F3-AF76-4EE5-B25D-DCB26FF4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62DA-BE5C-4859-A47E-C6CAF5F2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B8A1-265E-4000-89DB-280F67A5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6DF3-520E-4990-9E37-91163802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EAFC-3F22-4535-88A7-C407BE73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E8B6-64E7-4EEC-BD19-06763E5A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A91D-BDEE-475D-9C82-F1809EB9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350E-165A-42EB-9A31-44AD2F32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CE0-CFEC-4D37-8497-99FDF06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FAA7-A05C-4A69-A7EE-CF225B3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DB55-E814-47C7-A9EA-53FC527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6838-A31E-4DD4-9DB8-9D40380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E45E-BCF0-4504-8EAB-9DC82BAC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015C-1697-49F8-BEBB-25D903F6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3C49-7328-4BE8-BBFD-56CA50F5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823-76F9-48F1-B98B-9B977BC6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899-088A-4C32-B51E-F7CF64F3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078-3AF4-431C-96A1-895C0CC9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36F-86EB-40B4-AA50-8DA7BF1D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BC1-1DC6-4CAA-8B63-3B3B0588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210-733B-46E5-8560-F258D08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1EF6-02BB-43A0-A765-8A032E0EFCF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780F-BE8C-45F7-A1DD-0F7014B504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IN and NCS 5 Benchmark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40384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ind A. Zir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Computer Science, Dec.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Computer Sci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Nevada, R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5400" y="66600"/>
            <a:ext cx="6153120" cy="61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iolog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in of an adult human has more than 100 billion neurons (nerve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al cells number 10 to 50 times more than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are interconnected via Synapses (1,000 to 5,000 b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forms large and complex interconnec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piking Neural Network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 and 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and widely used simulation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in simulating single neuron and small network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oCortical Simulator (NCS) was developed in the BCL at UNR under the direction of Dr. Good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s relatively realistic large biological neural networks effici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eoCortical Simulator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ompartmental model of a neu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s (Km, Ka, and Kah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D connection between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 with help of Messag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 and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ing and loading neural network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IN: Ongoing Activ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 and Beta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8753400" cy="2752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553068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G recordings of Alpha (7-12 Hz) and Beta (13-20 Hz) wav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wake human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IN activ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43000" y="1641600"/>
            <a:ext cx="6705720" cy="4479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61722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ter plot of typical Recurrent Asynchronous Irregular Network (RAIN) activity [2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itial Parameter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ize = 10,000 neurons (33 E1, 7,967 E2, and 2,000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2%, fully connected, except for self connections in cell group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tic conduct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itatory = 6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ibitory = 67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was off for 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itial Parameter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Sampling Value (FSV) = 10,000 (E.g.: Time ticks = Duration x FSV = 24,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aptic waveform time constants (EPSG = 5 ms and IPSG = 10 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_BASED stimulus type was used (Random Poisson stimulus was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 firing threshold = -50 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itial Parameter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4337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52280" y="60339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 of NCS 5 neural network according to initi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238880" cy="52117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itial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oltage report of few cells from E2 cell group plotted using Neuro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itial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ilepsy in cell group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23888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cknowledgemen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uld like to thank my committee members for there valuable guidance and pat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 was done with support from an Office of Naval Research (ONR) grant # N00014-07-1-00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ecalibrating Parameter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ize = 4,000 neurons (16 E1, 3,186 E2, and 800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self connections in cell group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han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ed o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SAME_P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f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algorithm – Forced vs. Binomi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in the floating point value approximation of synap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nection Algorithm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 of binomial distribution of connections in E2 – E2 self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10480" cy="50259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914400" y="2819520"/>
            <a:ext cx="2286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6019920"/>
            <a:ext cx="51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ions per neur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ecalibrated Parameter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60339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 of NCS 5 neural network according to revised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14280" y="1596960"/>
            <a:ext cx="6710400" cy="443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ecalibrated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igniting but then dying due to strong 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04760" y="976320"/>
            <a:ext cx="7072560" cy="5272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ecalibrated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andom representative fraction of cells from cell group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95400" y="990720"/>
            <a:ext cx="7081920" cy="526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ecalibrated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voltage plot of 2 neurons from cell group E2 using Neurop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84320" y="990720"/>
            <a:ext cx="6840360" cy="51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inal RAIN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voltage plot of 4 neurons exhibiting RAIN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955800"/>
            <a:ext cx="6929280" cy="5140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inal RAIN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 in cell group E1 (all 14 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014480" y="987480"/>
            <a:ext cx="7062840" cy="5261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inal RAIN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 in cell group E2 (representative subset of about 115 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02440" cy="52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inal RAIN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 in cell group I (representative subset of about 100 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38240" y="990720"/>
            <a:ext cx="7039080" cy="522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rent Asynchronous Irregular Network (R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S 5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inal RAIN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ing rates of various combinations of excitatory and inhibitory synaptic conduc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629400" y="2057400"/>
            <a:ext cx="2419200" cy="2771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59800" y="5486400"/>
            <a:ext cx="21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gels &amp; Abbott 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23840" y="1131840"/>
            <a:ext cx="6353280" cy="43545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629400" y="12193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4864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S 5 Neural Network Model (cell group E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IN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ng sleep state (Delta waves) [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ize = 4,000 neurons (5 cell groups of 800 neurons – E1 to E4 and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SV = 1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timulus for initial 50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Ramp stimulus for initial 25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e stimulus was given through out the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IN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wave oscillations in cell group E1 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048440" cy="5149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AIN Applic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624852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-normalization of synaptic weights due to Hebbian learning [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50760" y="1019160"/>
            <a:ext cx="6973920" cy="5153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0066"/>
                </a:solidFill>
                <a:latin typeface="Arial"/>
              </a:rPr>
              <a:t>NCS 5  Benchmarks</a:t>
            </a:r>
            <a:endParaRPr b="1" lang="en-US" sz="6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etup and Procedur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58053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matic representation of benchmark system set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14400" y="1514520"/>
            <a:ext cx="7162920" cy="4200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1752480" y="533520"/>
            <a:ext cx="38124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514600" y="533520"/>
            <a:ext cx="38088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276720" y="533520"/>
            <a:ext cx="38088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4038480" y="533520"/>
            <a:ext cx="38124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800600" y="533520"/>
            <a:ext cx="38088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562720" y="533520"/>
            <a:ext cx="38088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6324480" y="533520"/>
            <a:ext cx="38124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7086600" y="533520"/>
            <a:ext cx="380880" cy="56386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6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8" dur="3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10" dur="3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12" dur="3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14" dur="3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16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18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 repeatCount="2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16823 0 L 0.16701 0 L 0 0 Z">
                                      <p:cBhvr>
                                        <p:cTn id="20" dur="3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eural Network Mode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duration = 1.5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groups distributed evenly in two layers L1 and L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1 was designed to win in all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ell group consisted of 16 or multiple of 16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us du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Neural Network Model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or from each Cortex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group configuration = 2 and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ons and CPUs were doubled successively until it was unable to record Behavior Time Response (B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spiking rate: L1 = 40 Hz, L2 = 38.46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ests Desig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1 – Raw CPU power, no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2 – Performance of local memory (RAM), 10% self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3 – Ethernet latency, 10% cross connections between Layer 1 and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4 – Local memory + Ethernet latency, 10% self and cross connections (Test 2 + Test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3B and 4B – 1%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Introduction: Motivat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of Auto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(living things – Hum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(systems – Computers, Rob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les from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TR – Behavior Time Response (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 – System Time Response (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µ-sec/spik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STR / Total network spik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 behavior of the results is revealed when the cell groups are spiking at their maximum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-log plots wer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5958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Average Spiking Rates of cell groups E1 in layer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671480" y="1406520"/>
            <a:ext cx="5521320" cy="436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5958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1 vs. Te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676520" y="1407960"/>
            <a:ext cx="5421240" cy="4391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5958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3 vs. Tes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671480" y="1406520"/>
            <a:ext cx="5421600" cy="44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52280" y="5958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3 – 10% vs. 1%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671480" y="1406520"/>
            <a:ext cx="5448600" cy="44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5958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4 – 10% vs. 1%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671480" y="1406520"/>
            <a:ext cx="5448600" cy="44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enchmark Result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595800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 of real time behavior response (B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671480" y="1406520"/>
            <a:ext cx="5448600" cy="4425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Observa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 of numbers in connected cell groups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cell group model = 838,860 synapses (2 x (16 x 128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cell group model = 52,416 synapses (32 x (16 x 8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passing is the single most time consuming aspect in N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k I/O for large repor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ing of stimulus in case of massively larg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onclusio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connections in cell group I are the key factor for RAI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 was used in simulating slow wave 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 is based on biological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S benchmarks have shown that message passing is indeed the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hardware should have a fast network interface between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uture Wor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RAIN as basis for simulating memory and other huma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ism models based on RAIN (Audio stimul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lepsy model study using 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hesis Wor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ing Recurrent Asynchronous Irregular Network (R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Vogels and Abbott (2005) 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publish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. Comput. Neuro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007) [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S 5 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Virtual NeuroRobotics (VNR) system (2007) 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uture Work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ing NCS message passing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ing NCS for multi-core processor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. P. Vogels, and L. F. Abbott, "Signal Propagation and Logic Gating in Networks of Integrate-and-Fire Neurons"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Journal of Neurosci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vol. 25(46), pp. 10786–10795, 200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H. Goodman, F. C. Harris, Jr., M. Zirpe, et. al., "Simulation of networks of spiking neurons: A review of tools and strategies", J. Comput. Neuroscience, vol. 23, pp. 349-398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H. Goodman, S. Buntha, Q. Zou, and S. Dascalu, "Virtual neurorobotics (VNR) to accelerate development of plausible neuromorphic brain architectures", Frontiers in Neurorobotics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. Crevier, "AI: The Tumultuous Search for Artificial Intelligence", New York, NY: BasicBooks, 199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. Tononi, and C. Cirelli, "Sleep function and synaptic homeostasis", Sleep Medicine Reviews, vol. 10, pp. 49–62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00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. H. Goodman, R. Doursat, Q. Zou, M. Zirpe, and O. Sessions, "RAIN Brains: Mammalian Neocortex as a Hybrid Analog-Digital Computer", Poster at Unconventional Computation Conference, Santa Fe, March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"/>
            <a:ext cx="75438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ackground:</a:t>
            </a:r>
            <a:br>
              <a:rPr sz="4800"/>
            </a:b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130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ined by John McCarthy in 1956 [4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AI syste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Systems – inference engines with forward and backward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based reasoning – searches through a set of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yesian networks (belief networks) – probabilistic graphic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based AI – decomposing intelligence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rtificial Intelligenc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diagn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linea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I – Observation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under supervision in controlled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ing computationally intens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problem is gener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ng advance human features – memory, learning, consciousness, emo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ly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N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icial Neural Networks (AN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257560" y="2543040"/>
            <a:ext cx="4448160" cy="3095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320" y="566748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resentation of a simple 3-layer feed-forward ANN with 4 inpu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hidden nodes, and 1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_1</cp:lastModifiedBy>
  <dcterms:modified xsi:type="dcterms:W3CDTF">2007-12-07T09:35:03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